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ECD-925C-414B-9588-B1B231D8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167-2FCF-4E48-891A-B7B197E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632-0A20-4CEE-B192-CD5F3694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D75-3FC7-49CF-B41A-F5E457FF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016D-19E1-4896-98F3-DB60F9BB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1A40-FBCE-4D26-8F59-596710DC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A045-0D01-4D3D-A47D-128BB106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5A2B-A0D6-4119-B918-954C17BE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D6F1-A305-4B0E-AE8A-B74085E0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9957-F1CB-4EE7-A37B-2F346943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DF07-056F-4159-8636-A8730DA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6B8-210B-4CA4-9083-87000C73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0B4C-AFE6-44F0-9DAF-0DFF67C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6C8C-E91A-48DE-A687-11B651C8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0BA3-8A45-41E8-AF07-8E1092D0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7D87-4348-4A44-96CA-5C128D2F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24AD-B636-479D-813A-816C1AC0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F34-92CA-4F67-8061-C803E7A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A9C-9569-4AD1-BD55-CAC6BC6B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0CC-B19B-4169-BBE8-990A8C9E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97B-7A8A-48F3-B50E-171391DA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FD4-0661-4836-A163-D11ED85A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EED-1CDE-4606-BCA6-BF8CF5D2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902-09CA-412E-A6B8-97B39F8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FDDD-3941-40D6-9E5C-42476F1529A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1C29-3268-4502-A966-6E45AE25393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3366"/>
                </a:solidFill>
                <a:latin typeface="Times New Roman"/>
              </a:rPr>
              <a:t>CHAPITRE 5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A SECONDE GUERRE MONDIAL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(1939 – 1945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n juin 1941, Hitler veut envahir l’URSS brisant ainsi le pacte de non-agression de 1939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’URSS se rapproche de l’Angleterre contre Hitl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s États-Unis entreront en guerre après l’attaque de Pearl Harbor par le Japon en 1941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Recul des Alleman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Mai 1945, Hitler se suicide. Capitulation de l’Allemag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s 6 et 9 août 1945 : Bombes atomiques sur Hiroshima et Nagasak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 2 septembre 1945 : fin de la guerre avec le Japon qui capitul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1.2  PARTICIPATION CANADIENNE ET QUÉBÉCOISE À LA GUER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724360" y="2492280"/>
            <a:ext cx="35784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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Rôle militaire 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Protection du ravitaill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Campagne de libération de l’Europ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6095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Aide économique: nourriture &amp; matériel de guer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8280360" cy="5742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roduit : avions, chars d’assaut, armes, muni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griculture s’adapte aussi aux besoins des Allié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755280" y="3645000"/>
            <a:ext cx="838836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Mackenzie King  (Premier ministre) avait dit qu’il n’y aurait pas de conscription. En 1942, il fait un référendum (plébiscite) pour recourir à la conscription. La majorité de la population canadienne accept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n tout, 600,000 soldats (5% de la population) iront à la guer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42,000 mor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53,000 blessé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Pour les Québécois, 8% de  soldats de plus qu’en 1914-18 iront à la guerre. Plusieurs sont dans des bataillons anglophones et ont des problèmes de langu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755640" y="2214360"/>
            <a:ext cx="8012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s Canadiens français sont surtout dans l’infanterie où les pertes de vies humaines sont importantes. Il y a peu de francophones occupant des grades supérieurs ou servant dans des unités techniques (marine ; aviation). Il y aura 55,000 Canadiens français qui iront à la guer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28036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 </a:t>
            </a:r>
            <a:r>
              <a:rPr b="1" lang="fr-CA" sz="4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LE MONDE EN GUER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Dans les années 30, L’Europe voit monter 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fascisme avec Mussolini et Hitler. Comm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nous l’avons vu, cette doctrine politiq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favorise la dictature. Les démocrat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s’inquiètent de plus en plus de la tournure 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événement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1.3  PARTICIPATION DES NATIONS AUTOCHTON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Plusieurs participent (volontaires et non-volontaire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On prend conscience du statut d’infériorité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n 1941, le Grand Conseil de la Confédération iroquoise déclare la guerre au Japon et à l’Allemagne. En faisant cela, les Autochtones voulaient montrer leur autonomi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s bases militaires dans le Grand Nord apportent des changements dans le mode de vie (sédentarisation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On utilise les langues amérindiennes pour coder les communica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Après la guerre, on procède à la réunion des nations amérindiennes : «Fraternité des Indiens du Canada» qui s’appelle aujourd’hui «L’Assemblée des Premières Nations». Leurs buts 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-  Revendications territori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-   Autonomie gouvernementa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-   Participation aux décisions prises à leur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  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propos par les gouvernements fédé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  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t provinciaux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On verra donc, lors de la guerre, des pays s’unir pour former </a:t>
            </a:r>
            <a:r>
              <a:rPr b="1" lang="fr-CA" sz="2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les Alliés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France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Grande-Bretag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États-Unis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Pays du Commonwealt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U.R.S.S. se joindra à eux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D’autres pays, appelés «</a:t>
            </a:r>
            <a:r>
              <a:rPr b="1" lang="fr-CA" sz="2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Puissances de l’Axe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» représenteront les dictatures 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Allemagne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Italie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Jap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1.1    LES ÉTAPES DU CONFLI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n 1939, le 1</a:t>
            </a:r>
            <a:r>
              <a:rPr b="1" lang="fr-CA" sz="3200" spc="-1" strike="noStrike" baseline="30000">
                <a:solidFill>
                  <a:srgbClr val="cccc99"/>
                </a:solidFill>
                <a:latin typeface="Times New Roman"/>
                <a:ea typeface="Times New Roman"/>
              </a:rPr>
              <a:t>er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septembre, Hitler envahit la Pologne qui ne veut pas rétrocéder le couloir de Dantzig (Gdansk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 3 septembre, la France et l’Angleterre ripostent en déclarant la guerre à l’Allemag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Juin 1940 : la France est battue. Pétain accepte l’occupa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De Gaulle s’allie les forces françaises et la résistanc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Jusqu’en 1942, les Alliés auront du mal à résister. Par la suite, ils arriveront à faire reculer les Allemand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01:56:08Z</dcterms:created>
  <dc:creator>user</dc:creator>
  <dc:description/>
  <dc:language>en-US</dc:language>
  <cp:lastModifiedBy>Tech</cp:lastModifiedBy>
  <dcterms:modified xsi:type="dcterms:W3CDTF">2011-05-24T15:43:58Z</dcterms:modified>
  <cp:revision>15</cp:revision>
  <dc:subject/>
  <dc:title>CHAPITRE 5</dc:title>
</cp:coreProperties>
</file>