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57B-7C17-43DB-9D3C-AE2336D9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7AB-54DD-45F8-92FA-1DDFDA8E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1D5-90C8-4038-AD01-06C5E97C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471-623F-4065-B139-0BD44A74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269B-3344-47A8-B9B6-9A0AC6D5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167-F69B-4B44-89C5-3A29F44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4651-22BA-4878-9522-7F4BD677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D3E-A866-4BD3-9C0D-1BEEA4A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0418-7B56-4744-9EA4-23F747C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48C-3E1D-4DA9-B1A9-929F941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0725-B312-404B-9B1B-5105CE0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674-58E8-437B-AC71-0FE3976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3A61-BE61-45A3-8CB6-174D3956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2E97-EA56-4B22-8D71-0028983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73CD-5B2D-420E-B8BD-B69CAC9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DA83-8E6B-48F1-9298-C6B737D9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3D8B-A0E8-4D73-9ECE-DB1FAB8B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6E8-311C-44D7-97DC-5FEF5340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FF8-96D2-431F-B57D-86BAB7F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670-15D5-4B93-83BC-0BA71EFA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D07-0162-463D-9120-7A86661A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771-880B-42DC-8573-21E1B174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652-A335-42E5-870F-E8CC15E8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564-39F9-422E-9525-D935569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DC52-96DA-4DA0-92AD-F1FA2B1FAF6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F28-2C1E-480F-A48B-4FD9966B1F3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3366"/>
                </a:solidFill>
                <a:latin typeface="Times New Roman"/>
              </a:rPr>
              <a:t>CHAPITRE 5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A SECONDE GUERRE MONDI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(1939 – 1945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juin 1941, Hitler veut envahir l’URSS brisant ainsi le pacte de non-agression de 1939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’URSS se rapproche de l’Angleterre contre Hitl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États-Unis entreront en guerre après l’attaque de Pearl Harbor par le Japon en 1941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Recul des Alleman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Mai 1945, Hitler se suicide. Capitulation de l’Allemag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6 et 9 août 1945 : Bombes atomiques sur Hiroshima et Nagasak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 2 septembre 1945 : fin de la guerre avec le Japon qui capitu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1.2  PARTICIPATION CANADIENNE ET QUÉBÉCOISE À LA GUER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724360" y="2492280"/>
            <a:ext cx="35784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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Rôle militaire 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rotection du ravitaill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Campagne de libération de l’Euro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6095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Aide économique: nourriture &amp; matériel de guer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8280360" cy="5742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roduit : avions, chars d’assaut, armes, muni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griculture s’adapte aussi aux besoins des Allié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55280" y="3645000"/>
            <a:ext cx="838836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Mackenzie King  (Premier ministre) avait dit qu’il n’y aurait pas de conscription. En 1942, il fait un référendum (plébiscite) pour recourir à la conscription. La majorité de la population canadienne accepte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tout, 600,000 soldats (5% de la population) iront à la guer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42,000 mor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53,000 blessé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our les Québécois, 8% de  soldats de plus qu’en 1914-18 iront à la guerre. Plusieurs sont dans des bataillons anglophones et ont des problèmes de langu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55640" y="2214360"/>
            <a:ext cx="8012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Canadiens français sont surtout dans l’infanterie où les pertes de vies humaines sont importantes. Il y a peu de francophones occupant des grades supérieurs ou servant dans des unités techniques (marine ; aviation). Il y aura 55,000 Canadiens français qui iront à la guer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28036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 </a:t>
            </a:r>
            <a:r>
              <a:rPr b="1" lang="fr-CA" sz="4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LE MONDE EN GUER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Dans les années 30, L’Europe voit monter 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fascisme avec Mussolini et Hitler. Comm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nous l’avons vu, cette doctrine politiq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favorise la dictature. Les démocrat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s’inquiètent de plus en plus de la tournure 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événement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1.3  PARTICIPATION DES NATIONS AUTOCHTON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lusieurs participent (volontaires et non-volontair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On prend conscience du statut d’infériorité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1941, le Grand Conseil de la Confédération iroquoise déclare la guerre au Japon et à l’Allemagne. En faisant cela, les Autochtones voulaient montrer leur autonomi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s bases militaires dans le Grand Nord apportent des changements dans le mode de vie (sédentarisation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On utilise les langues amérindiennes pour coder les communica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Après la guerre, on procède à la réunion des nations amérindiennes : «Fraternité des Indiens du Canada» qui s’appelle aujourd’hui «L’Assemblée des Premières Nations». Leurs buts 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-  Revendications territori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-   Autonomie gouvernementa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-   Participation aux décisions prises à leur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propos par les gouvernements fédé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t provinciaux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On verra donc, lors de la guerre, des pays s’unir pour former </a:t>
            </a:r>
            <a:r>
              <a:rPr b="1" lang="fr-CA" sz="2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les Alliés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France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Grande-Bretag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États-Unis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Pays du Commonwealt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U.R.S.S. se joindra à eu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D’autres pays, appelés «</a:t>
            </a:r>
            <a:r>
              <a:rPr b="1" lang="fr-CA" sz="2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Puissances de l’Axe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» représenteront les dictatures 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Allemagne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Italie 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Jap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1.1    LES ÉTAPES DU CONFLI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En 1939, le 1</a:t>
            </a:r>
            <a:r>
              <a:rPr b="1" lang="fr-CA" sz="3200" spc="-1" strike="noStrike" baseline="30000">
                <a:solidFill>
                  <a:srgbClr val="cccc99"/>
                </a:solidFill>
                <a:latin typeface="Times New Roman"/>
                <a:ea typeface="Times New Roman"/>
              </a:rPr>
              <a:t>er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 septembre, Hitler envahit la Pologne qui ne veut pas rétrocéder le couloir de Dantzig (Gdansk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Le 3 septembre, la France et l’Angleterre ripostent en déclarant la guerre à l’Allemag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Juin 1940 : la France est battue. Pétain accepte l’occupa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De Gaulle s’allie les forces françaises et la résistanc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cccc99"/>
                </a:solidFill>
                <a:latin typeface="Symbol"/>
                <a:ea typeface="Symbol"/>
              </a:rPr>
              <a:t>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        </a:t>
            </a:r>
            <a:r>
              <a:rPr b="1" lang="fr-CA" sz="3200" spc="-1" strike="noStrike">
                <a:solidFill>
                  <a:srgbClr val="cccc99"/>
                </a:solidFill>
                <a:latin typeface="Times New Roman"/>
                <a:ea typeface="Times New Roman"/>
              </a:rPr>
              <a:t>Jusqu’en 1942, les Alliés auront du mal à résister. Par la suite, ils arriveront à faire reculer les Allemand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01:56:08Z</dcterms:created>
  <dc:creator>user</dc:creator>
  <dc:description/>
  <dc:language>en-US</dc:language>
  <cp:lastModifiedBy>Tech</cp:lastModifiedBy>
  <dcterms:modified xsi:type="dcterms:W3CDTF">2011-05-24T15:43:58Z</dcterms:modified>
  <cp:revision>15</cp:revision>
  <dc:subject/>
  <dc:title>CHAPITRE 5</dc:title>
</cp:coreProperties>
</file>