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587-10BB-49D8-9376-E880CDDE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3FA-8888-4611-A797-7648251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778-F6C8-4736-9229-D9E722B9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93E-84D9-4A3D-83DB-9BD8EB5D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8565-263C-4D0A-88C2-48AB3682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44C3-21F1-4D66-AAC9-D02E6ED8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E91A-B94B-4017-A408-3622A665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9FE8-9BCF-4140-A91C-5EBA4DD4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F72A-4EE7-4FD6-8C51-BCB058D2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D4B5-6D9C-48C6-9476-A19BF4F4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2D18-8924-406E-BADD-D1B8DF4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943-329C-4798-8F11-7C634EFD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C4F1-4CB0-4A27-9BA1-40DAC42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69AD-DBCB-485E-B075-B90BDA00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9BCD-6709-46BE-ACEC-F08ED129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0433-3EA9-4B14-BC00-B08665BF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0A67-86DD-4DF9-BEFE-5EFE99AF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AAF-BB15-46EC-A112-2C3AC773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C24-53FE-49B3-9467-327F63C5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6C8-0328-426B-8192-28C1DD7A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C12-8E84-45F8-8EBD-DC11BAB4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C15-DF26-43B2-B08B-F16BB17C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CBB-6033-4AF2-8AE6-C97D8939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992-DDBD-4906-BD9E-39C1175D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3EC0-91CA-4A66-BD76-9B4908EA2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A5D4-B55D-4820-AB67-B43E26000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CHAPITRE 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RÉGIME DUPLESSIS</a:t>
            </a:r>
            <a:br>
              <a:rPr sz="3600"/>
            </a:b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5-1959</a:t>
            </a:r>
            <a:br>
              <a:rPr sz="3600"/>
            </a:b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66ffcc"/>
                </a:solidFill>
                <a:latin typeface="Arial"/>
                <a:ea typeface="Times New Roman"/>
              </a:rPr>
              <a:t>Essor dans les richesses naturelles 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usse de la demande d’électricité entraîne 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éveloppement de l’hydroélectricit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Production minière : développement de la 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ôte-Nord et du Nouveau-Québe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Les États-Unis investissent localement 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 s’accaparent l’économ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Le secteur tertiaire se développe à la suite de cette haute technologie 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btient plus de productivité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c moins de main-d’œuv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ente, l’administration et les services publics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t à la hausse et demandent du personn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57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1.2</a:t>
            </a:r>
            <a:r>
              <a:rPr b="1" lang="fr-CA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 </a:t>
            </a:r>
            <a:r>
              <a:rPr b="1" lang="fr-CA" sz="4400" spc="-1" strike="noStrike">
                <a:solidFill>
                  <a:srgbClr val="ff0033"/>
                </a:solidFill>
                <a:latin typeface="Arial"/>
                <a:ea typeface="Times New Roman"/>
              </a:rPr>
              <a:t>LE «BABY BOO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importante de la population du Québec entre 1939 et 1959 est due à 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294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e hausse du taux de natal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586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ugmentation de l’immig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ffff"/>
                </a:solidFill>
                <a:latin typeface="Arial"/>
                <a:ea typeface="Times New Roman"/>
              </a:rPr>
              <a:t>La natalité</a:t>
            </a:r>
            <a:r>
              <a:rPr b="1" lang="fr-CA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rise et la guerre avaient fait baisser le taux des naissances (1936 = plus b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Moyenne de 135,000 bébés /année au Québec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1946 et 196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Amélioration des soins médica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Amélioration de la qualité du lait et de l’ea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472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ffff"/>
                </a:solidFill>
                <a:latin typeface="Arial"/>
                <a:ea typeface="Times New Roman"/>
              </a:rPr>
              <a:t>L’immigration 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1945 et 1960, 400,000 personnes sont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ues au Québe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’établissent dans les villes, surtout Montré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immigrants travaillent principalement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s les manufa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0033"/>
                </a:solidFill>
                <a:latin typeface="Arial"/>
                <a:ea typeface="Times New Roman"/>
              </a:rPr>
              <a:t>1.</a:t>
            </a:r>
            <a:r>
              <a:rPr b="1" lang="fr-CA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1" lang="fr-CA" sz="4000" spc="-1" strike="noStrike">
                <a:solidFill>
                  <a:srgbClr val="ff0033"/>
                </a:solidFill>
                <a:latin typeface="Arial"/>
                <a:ea typeface="Times New Roman"/>
              </a:rPr>
              <a:t>LES CHANGEMENTS SOCIO-ÉCONOMIQU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ès la guerre, l’industrie moderne se développe. Les secteurs traditionnels (textile, cuir, tabac) déclinent. Augmentation du nombre de femmes sur le marché du travail (surtout dans le secteur des servi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s s’intègrent à la population anglophone bien que les francophones forment 62% de la population. Il semble qu’ils voient que l’ascension sociale se fait en anglai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plus, les Canadiens français sont peu ouverts aux étrang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 la population augmente, il y a plus de consommation et donc plus de pro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1.3</a:t>
            </a:r>
            <a:r>
              <a:rPr b="1" lang="fr-CA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    </a:t>
            </a: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LA MODERNISATION DE L’AGRICULTURE ET LES COOPÉRATIV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griculture québécoise se modernise grâce à 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ux d’intérêts rédu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ventions gouvernem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électr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ératives agricoles (achat et vent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fermes se transforment en entreprises commerciales. On délaisse l’agriculture de subs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32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ffff"/>
                </a:solidFill>
                <a:latin typeface="Arial"/>
                <a:ea typeface="Times New Roman"/>
              </a:rPr>
              <a:t>Le coopératisme 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ès le début du 20</a:t>
            </a:r>
            <a:r>
              <a:rPr b="1" lang="fr-CA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ècle, il y avait des associations pour développer l’économie rur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ès la guerre, le mouvement prend de l’ample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opératisme permet aux agriculteurs d’acheter à bon prix des produits essentiels et de la machine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fait aussi la mise en marché des produits agrico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612720" y="1700280"/>
            <a:ext cx="975672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47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Le mouvement coopératif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s les pêcheries, les industries forestières, l’habitation, la consommation et l’éparg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isses populaires fondées par Alphonse Desjardins en 1900. C’est une réussite exemplai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64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43520" y="0"/>
            <a:ext cx="3300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s une coopérative, chaque membre a droit à un seul vote. Le contrôle appartient à la majorité et non à quelques actionnaires majorita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a se distingue du «collectivisme» car c’est une libre association non imposée par des lois ou des décr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0033"/>
                </a:solidFill>
                <a:latin typeface="Arial"/>
                <a:ea typeface="Times New Roman"/>
              </a:rPr>
              <a:t>1.1 UNE PÉRIODE DE CROISSANCE SANS PRÉCÉD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is facteurs favorisent la croissance économique 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construction de l’Europe qui a été dévastée par la guer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emande de matières premières par les États-Un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oduction de matériel de guerre pendant la guerre froide (risque de guerre constant entre le bloc communiste (Pacte de Varsovie, Comecon) à l’Est et les Alliés à l’Ouest (OTAN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lus de ces facteurs, d’autres éléments permettent la plus grande croissance économique de l’histoire et une hausse du niveau de vie dans tous les pays industrialisé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nouvelles technologies développées durant la guerre feront alors partie de la production civile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n-militair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profits accumulés par les entreprises lors de la guerre seront réinvestis dans l’application des nouvelles technolog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ccumulation d’épargne faite par les ménages, en rationnant les dépenses, permet un grand pouvoir d’ach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 opposition aux industries traditionnelles des 19</a:t>
            </a:r>
            <a:r>
              <a:rPr b="1" lang="fr-CA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 20</a:t>
            </a:r>
            <a:r>
              <a:rPr b="1" lang="fr-CA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ècles, on a maintenant des industries dans les secteurs de haute technologie. Cela exige une main-d’œuvre qualifié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1:49:55Z</dcterms:created>
  <dc:creator>user</dc:creator>
  <dc:description/>
  <dc:language>en-US</dc:language>
  <cp:lastModifiedBy>Tech</cp:lastModifiedBy>
  <dcterms:modified xsi:type="dcterms:W3CDTF">2011-05-24T17:51:07Z</dcterms:modified>
  <cp:revision>15</cp:revision>
  <dc:subject/>
  <dc:title>CHAPITRE 6</dc:title>
</cp:coreProperties>
</file>