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AE8-9A43-40D1-965C-F984413E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4914-BDDD-40FE-B639-A1310A83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DE6-0671-48CA-A519-74877C7F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874-DA7C-4466-8D11-75848DA1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C171-ABCC-44FD-ACD3-BD1AFB96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87E2-C62A-4ED4-ACD0-150ADE54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CFFC-010B-47A5-8D15-9C6461FB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1FC2-9D9F-4414-834B-CE064A71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DE23-CD9E-4F7B-A94C-A0066A1C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E4D7-8119-4D76-8C8C-51BB958B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EADE-3A42-4788-A0CA-281FD136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BFF-4DF7-4193-BE81-A59AB369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8A42-6161-4E7E-946E-73192F9B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5527-1EF1-46AD-AC4B-F59052B1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1277-FF87-4EF9-AF49-91A3A286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B5CA-3B48-4972-8217-302B9CAA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3409-4B32-4B3C-9F5D-CD16BED7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4DFF-DC3E-4216-8248-9AB9B586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709-8B7B-4D69-AA36-F13997C4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456-B78D-4B34-97A7-307A2BF1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6F97-236D-4DE4-8AAE-7DE05D27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E9E3-5707-469E-A95C-B281C87A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897E-CD8D-4018-9AB7-9DFBF33B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BF84-546A-41F2-A93E-99300CDD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ADEC-992F-4495-87F3-9AA75EFEB8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8D0D-9FDE-4A5C-9494-9ECF6B54B4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0033"/>
                </a:solidFill>
                <a:latin typeface="Arial"/>
                <a:ea typeface="Times New Roman"/>
              </a:rPr>
              <a:t>CHAPITRE 6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RÉGIME DUPLESSIS</a:t>
            </a:r>
            <a:br>
              <a:rPr sz="3600"/>
            </a:b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45-1959</a:t>
            </a:r>
            <a:br>
              <a:rPr sz="3600"/>
            </a:b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66ffcc"/>
                </a:solidFill>
                <a:latin typeface="Arial"/>
                <a:ea typeface="Times New Roman"/>
              </a:rPr>
              <a:t>Essor dans les richesses naturelles 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usse de la demande d’électricité entraîne </a:t>
            </a:r>
            <a:br>
              <a:rPr sz="3200"/>
            </a:b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développement de l’hydroélectricit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Production minière : développement de la </a:t>
            </a:r>
            <a:br>
              <a:rPr sz="3200"/>
            </a:b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ôte-Nord et du Nouveau-Québe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Les États-Unis investissent localement </a:t>
            </a:r>
            <a:br>
              <a:rPr sz="3200"/>
            </a:b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 s’accaparent l’économ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7592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Le secteur tertiaire se développe à la suite de cette haute technologie 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obtient plus de productivité 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ec moins de main-d’œuv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ente, l’administration et les services publics 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t à la hausse et demandent du personn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5577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0033"/>
                </a:solidFill>
                <a:latin typeface="Arial"/>
                <a:ea typeface="Times New Roman"/>
              </a:rPr>
              <a:t>1.2</a:t>
            </a:r>
            <a:r>
              <a:rPr b="1" lang="fr-CA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    </a:t>
            </a:r>
            <a:r>
              <a:rPr b="1" lang="fr-CA" sz="4400" spc="-1" strike="noStrike">
                <a:solidFill>
                  <a:srgbClr val="ff0033"/>
                </a:solidFill>
                <a:latin typeface="Arial"/>
                <a:ea typeface="Times New Roman"/>
              </a:rPr>
              <a:t>LE «BABY BOOM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importante de la population du Québec entre 1939 et 1959 est due à 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-360" y="1484280"/>
            <a:ext cx="294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e hausse du taux de natalit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3640" y="0"/>
            <a:ext cx="55864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ugmentation de l’immig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CA" sz="3600" spc="-1" strike="noStrike">
                <a:solidFill>
                  <a:srgbClr val="00ffff"/>
                </a:solidFill>
                <a:latin typeface="Arial"/>
                <a:ea typeface="Times New Roman"/>
              </a:rPr>
              <a:t>La natalité</a:t>
            </a:r>
            <a:r>
              <a:rPr b="1" lang="fr-CA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rise et la guerre avaient fait baisser le taux des naissances (1936 = plus ba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Moyenne de 135,000 bébés /année au Québec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1946 et 196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Amélioration des soins médicau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Amélioration de la qualité du lait et de l’ea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4722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CA" sz="3600" spc="-1" strike="noStrike">
                <a:solidFill>
                  <a:srgbClr val="00ffff"/>
                </a:solidFill>
                <a:latin typeface="Arial"/>
                <a:ea typeface="Times New Roman"/>
              </a:rPr>
              <a:t>L’immigration :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1945 et 1960, 400,000 personnes sont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ues au Québe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’établissent dans les villes, surtout Montré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immigrants travaillent principalement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s les manufactu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0033"/>
                </a:solidFill>
                <a:latin typeface="Arial"/>
                <a:ea typeface="Times New Roman"/>
              </a:rPr>
              <a:t>1.</a:t>
            </a:r>
            <a:r>
              <a:rPr b="1" lang="fr-CA" sz="4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</a:t>
            </a:r>
            <a:r>
              <a:rPr b="1" lang="fr-CA" sz="4000" spc="-1" strike="noStrike">
                <a:solidFill>
                  <a:srgbClr val="ff0033"/>
                </a:solidFill>
                <a:latin typeface="Arial"/>
                <a:ea typeface="Times New Roman"/>
              </a:rPr>
              <a:t>LES CHANGEMENTS SOCIO-ÉCONOMIQU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ès la guerre, l’industrie moderne se développe. Les secteurs traditionnels (textile, cuir, tabac) déclinent. Augmentation du nombre de femmes sur le marché du travail (surtout dans le secteur des servic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s s’intègrent à la population anglophone bien que les francophones forment 62% de la population. Il semble qu’ils voient que l’ascension sociale se fait en anglai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plus, les Canadiens français sont peu ouverts aux étrang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391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e la population augmente, il y a plus de consommation et donc plus de produ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0033"/>
                </a:solidFill>
                <a:latin typeface="Arial"/>
                <a:ea typeface="Times New Roman"/>
              </a:rPr>
              <a:t>1.3</a:t>
            </a:r>
            <a:r>
              <a:rPr b="1" lang="fr-CA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    </a:t>
            </a:r>
            <a:r>
              <a:rPr b="1" lang="fr-CA" sz="3600" spc="-1" strike="noStrike">
                <a:solidFill>
                  <a:srgbClr val="ff0033"/>
                </a:solidFill>
                <a:latin typeface="Arial"/>
                <a:ea typeface="Times New Roman"/>
              </a:rPr>
              <a:t>LA MODERNISATION DE L’AGRICULTURE ET LES COOPÉRATIV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griculture québécoise se modernise grâce à 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ux d’intérêts rédu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ventions gouvernementa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électrific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pératives agricoles (achat et vent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fermes se transforment en entreprises commerciales. On délaisse l’agriculture de subs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32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ffff"/>
                </a:solidFill>
                <a:latin typeface="Arial"/>
                <a:ea typeface="Times New Roman"/>
              </a:rPr>
              <a:t>Le coopératisme :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ès le début du 20</a:t>
            </a:r>
            <a:r>
              <a:rPr b="1" lang="fr-CA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ècle, il y avait des associations pour développer l’économie rura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ès la guerre, le mouvement prend de l’ampleu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coopératisme permet aux agriculteurs d’acheter à bon prix des produits essentiels et de la machineri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fait aussi la mise en marché des produits agrico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612720" y="1700280"/>
            <a:ext cx="9756720" cy="28861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471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Le mouvement coopératif 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s les pêcheries, les industries forestières, l’habitation, la consommation et l’éparg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isses populaires fondées par Alphonse Desjardins en 1900. C’est une réussite exemplai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640872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843520" y="0"/>
            <a:ext cx="33004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s une coopérative, chaque membre a droit à un seul vote. Le contrôle appartient à la majorité et non à quelques actionnaires majorita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a se distingue du «collectivisme» car c’est une libre association non imposée par des lois ou des décre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0033"/>
                </a:solidFill>
                <a:latin typeface="Arial"/>
                <a:ea typeface="Times New Roman"/>
              </a:rPr>
              <a:t>1.1 UNE PÉRIODE DE CROISSANCE SANS PRÉCÉDEN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ois facteurs favorisent la croissance économique 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reconstruction de l’Europe qui a été dévastée par la guer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emande de matières premières par les États-Un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roduction de matériel de guerre pendant la guerre froide (risque de guerre constant entre le bloc communiste (Pacte de Varsovie, Comecon) à l’Est et les Alliés à l’Ouest (OTAN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lus de ces facteurs, d’autres éléments permettent la plus grande croissance économique de l’histoire et une hausse du niveau de vie dans tous les pays industrialisé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nouvelles technologies développées durant la guerre feront alors partie de la production civile 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on-militair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profits accumulés par les entreprises lors de la guerre seront réinvestis dans l’application des nouvelles technolog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ccumulation d’épargne faite par les ménages, en rationnant les dépenses, permet un grand pouvoir d’ach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 opposition aux industries traditionnelles des 19</a:t>
            </a:r>
            <a:r>
              <a:rPr b="1" lang="fr-CA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t 20</a:t>
            </a:r>
            <a:r>
              <a:rPr b="1" lang="fr-CA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ècles, on a maintenant des industries dans les secteurs de haute technologie. Cela exige une main-d’œuvre qualifié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5432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21:49:55Z</dcterms:created>
  <dc:creator>user</dc:creator>
  <dc:description/>
  <dc:language>en-US</dc:language>
  <cp:lastModifiedBy>Tech</cp:lastModifiedBy>
  <dcterms:modified xsi:type="dcterms:W3CDTF">2011-05-24T17:51:07Z</dcterms:modified>
  <cp:revision>15</cp:revision>
  <dc:subject/>
  <dc:title>CHAPITRE 6</dc:title>
</cp:coreProperties>
</file>