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103-C35E-4F57-8E2A-D3B3BF4C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F68-C2D7-4EB4-8AEB-BBBAB68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7A7-24A9-429E-A3A1-3B064D05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8B5-C9BD-4ECC-9252-3ABA66D3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EC5-4436-404E-B154-F8A367ED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951-6C5C-48A4-939F-70DFB92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690B-FF4C-4F3C-B03A-4E5B065F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BE19-C987-4882-83C7-9C04DD4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9C8-D081-4422-83DA-CE250E4A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9D0-B580-4B5B-BF6F-19DEAC6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36E-A58F-4906-B5D0-2C48278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9D6-8737-479E-815B-104B9DC4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20E4-3C2D-4A23-A775-F9C246E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BEC-546F-466C-BA92-9B43577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D58-BFB7-40E8-A5CB-649361B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46F-C804-4143-B07C-AD56A37E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C01-8DAE-41E7-9DC4-3D93C633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ED2-8E07-4B97-8202-9FEE778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A00-9E7E-404F-B45A-D7AE8937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171-DF22-4EDB-887E-A4137861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AAA-17EF-4236-AE78-7350A5D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7A6-72D2-40C2-9CC4-EC917CB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95B-83AE-40C9-AD0C-DC8FC69C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C7B-FD8C-4F72-9C75-57D9AFD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BF7C-D3DD-45EB-A781-C7CE9ECA8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60B-EDCA-43B3-83C3-2D7848EEF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</a:rPr>
              <a:t>APRÈS LA GUERRE AU QUÉBE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s francophones vont aussi se nourrir de la culture française (de Franc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5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ES AUTOCHTONES ET LE DÉVELOPPEMENT DU NOR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L’industrialisation gagne la Côte-Nord et le Nouveau-Québec (mines et centrales hydroélectriqu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’implantation de services gouvernementaux et les bases militaires font naître des vill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rée de nouvelles réserves afin d’encadrer le territoire réservé aux Autocht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réglemente la chasse aux castors. Bris du monopole de la Baie d’Hud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hasse connaîtra un décl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ssiste à la sédentarisation des Amérindie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0033"/>
                </a:solidFill>
                <a:latin typeface="Arial"/>
                <a:ea typeface="Times New Roman"/>
              </a:rPr>
              <a:t>2.</a:t>
            </a:r>
            <a:r>
              <a:rPr b="1" lang="fr-CA" sz="4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  </a:t>
            </a:r>
            <a:r>
              <a:rPr b="1" lang="fr-CA" sz="4800" spc="-1" strike="noStrike">
                <a:solidFill>
                  <a:srgbClr val="ff0033"/>
                </a:solidFill>
                <a:latin typeface="Arial"/>
                <a:ea typeface="Times New Roman"/>
              </a:rPr>
              <a:t>LE DUPLESSISM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</a:rPr>
              <a:t>1944 - 19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partir de 1940, le Québec devient une société urbaine et industrialisé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mentalités et la vie politique mettent plus de temps à évolu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incarne les forces sociales qui résistent aux change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herche à maintenir le Québec fermé sur lui-même, attaché aux traditions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   respect de l’autor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  femme au fo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  familles nombre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  pratique religie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associe le nationalisme à la religion catholique, en continuité avec l’identité canadienne-française définie par l’élite après les Rébellions de 1837-183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2.1</a:t>
            </a:r>
            <a:r>
              <a:rPr b="1" lang="fr-CA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LES FORCES TRADITIONNALIS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«L’agriculturisme»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: -  valorise la vie rurale qui aide à conserver les valeurs     traditionnelles (famille – travail – relig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griculture doit demeurer la base de l’économie car elle évite l’aggravation des problèmes de chô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A SOCIÉTÉ DE CONSOM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du pouvoir d’achat et la publicité commerciale incitent les gens à améliorer leurs conditions de vi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eut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 rôle de l’Églis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te de conserver sa présence dans tous les secte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nteste sa présence dans le domaine des services sociaux (éducation, soins aux malades, secours aux miséreu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se montre «large» envers le clergé et les laisse conserver leur rôle. Il les subvention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Québec, la religion demeure très présente. Elle sert d’élément d’unité du peu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glise lutte contre le socialisme et le communis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la lutte des classes, l’Église propose l’harmonie patrons/ouvr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dant que le gouvernement fédéral intervient dans différents domaines, le gouvernement du Québec joue plutôt un rôle de soutien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bec subventionne les communautés religieuses pour qu’elles s’occupent du domaine so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économie, le gouvernement du Québec mettra en place des conditions favorables à l’implantation d’entreprises privées et à l’entrée de capitaux étrangers (investissement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7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325080" cy="46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les travaux domestiques avec les électroména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86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ussir en gagnant le plus d’argen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r en balade au chalet dans son auto neu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151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r des vacances en Nouvelle-Angleter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arder la télévision, aller au cinéma et écouter de la musi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39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mode de vie des Québécois est influencé par le modèle américain de l’American  Way of Life  basé sur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éussite individue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    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fort matér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7:46:00Z</dcterms:created>
  <dc:creator>user</dc:creator>
  <dc:description/>
  <dc:language>en-US</dc:language>
  <cp:lastModifiedBy>Tech</cp:lastModifiedBy>
  <dcterms:modified xsi:type="dcterms:W3CDTF">2011-05-24T18:23:42Z</dcterms:modified>
  <cp:revision>15</cp:revision>
  <dc:subject/>
  <dc:title>1.4   LA SOCIÉTÉ DE CONSOMMATION</dc:title>
</cp:coreProperties>
</file>