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830C-BE6A-4A8B-A7F0-50B005079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BD8B-924E-4030-97D3-4180B0C05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91C6-035B-490D-8200-5114D8A65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0989-0C6D-4DE2-95D7-28F7B19DB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EA12C-3FF6-4120-8668-648912A6A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2E6E4-F652-4F7A-8A31-29F3E90E8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EABFB-65EE-4BC4-AF4F-A35EDE4D1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7767E-161C-4CEE-8EA9-3FC2E9957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0D025-C19C-46D9-88F1-A6F0B5C7E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ABBDD-4364-4F99-92A7-F35A1F528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C50DF-2CF0-4DDB-9833-E434816B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2C8A-6ECD-4058-ACF8-37E6F3A7B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A6D7B-9D05-40A9-8188-66A23C48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A34FD-A525-4C84-A9B3-645783EE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320BA-D62B-408A-BD4F-ED5500BC0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74654-2C24-4C72-8107-DAD816608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EEB48-61E1-4B71-9ABF-C2A1C4E60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0411-138B-4D63-A058-632F2C223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DFA2-77D3-4D71-B139-A6FBE918C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3A93-26FE-43A7-B6BB-4E726F4F0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A9D4-E31A-44E6-A4CD-C7F060359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5720-06DB-4A63-9F0D-1B318D13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F8D7-E42D-479B-A335-DA00965D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2980-1862-4C69-BD4C-B7F2ED16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4299A-3CB8-4BC7-B72C-E1A67FF5CF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856D1-F974-42FD-9D76-623922B9C6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564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0033"/>
                </a:solidFill>
                <a:latin typeface="Arial"/>
              </a:rPr>
              <a:t>APRÈS LA GUERRE AU QUÉBEC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85680"/>
            <a:ext cx="9144000" cy="67723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fr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tains francophones vont aussi se nourrir de la culture française (de France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0033"/>
                </a:solidFill>
                <a:latin typeface="Arial"/>
                <a:ea typeface="Times New Roman"/>
              </a:rPr>
              <a:t>1.5</a:t>
            </a:r>
            <a:r>
              <a:rPr b="1" lang="fr-CA" sz="3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    </a:t>
            </a:r>
            <a:r>
              <a:rPr b="1" lang="fr-CA" sz="3600" spc="-1" strike="noStrike">
                <a:solidFill>
                  <a:srgbClr val="ff0033"/>
                </a:solidFill>
                <a:latin typeface="Arial"/>
                <a:ea typeface="Times New Roman"/>
              </a:rPr>
              <a:t>LES AUTOCHTONES ET LE DÉVELOPPEMENT DU NORD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L’industrialisation gagne la Côte-Nord et le Nouveau-Québec (mines et centrales hydroélectriques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L’implantation de services gouvernementaux et les bases militaires font naître des vill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crée de nouvelles réserves afin d’encadrer le territoire réservé aux Autochton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réglemente la chasse aux castors. Bris du monopole de la Baie d’Hudso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chasse connaîtra un décli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assiste à la sédentarisation des Amérindien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800" spc="-1" strike="noStrike">
                <a:solidFill>
                  <a:srgbClr val="ff0033"/>
                </a:solidFill>
                <a:latin typeface="Arial"/>
                <a:ea typeface="Times New Roman"/>
              </a:rPr>
              <a:t>2.</a:t>
            </a:r>
            <a:r>
              <a:rPr b="1" lang="fr-CA" sz="4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     </a:t>
            </a:r>
            <a:r>
              <a:rPr b="1" lang="fr-CA" sz="4800" spc="-1" strike="noStrike">
                <a:solidFill>
                  <a:srgbClr val="ff0033"/>
                </a:solidFill>
                <a:latin typeface="Arial"/>
                <a:ea typeface="Times New Roman"/>
              </a:rPr>
              <a:t>LE DUPLESSISME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60948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0033"/>
                </a:solidFill>
                <a:latin typeface="Times New Roman"/>
              </a:rPr>
              <a:t>            </a:t>
            </a:r>
            <a:r>
              <a:rPr b="1" lang="fr-CA" sz="3600" spc="-1" strike="noStrike">
                <a:solidFill>
                  <a:srgbClr val="ff0033"/>
                </a:solidFill>
                <a:latin typeface="Times New Roman"/>
              </a:rPr>
              <a:t>1944 - 1959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914400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À partir de 1940, le Québec devient une société urbaine et industrialisé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</a:t>
            </a: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s mentalités et la vie politique mettent plus de temps à évolu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plessis incarne les forces sociales qui résistent aux changement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 cherche à maintenir le Québec fermé sur lui-même, attaché aux traditions 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      respect de l’autorit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      femme au foy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      familles nombreu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      pratique religieu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fr-C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plessis associe le nationalisme à la religion catholique, en continuité avec l’identité canadienne-française définie par l’élite après les Rébellions de 1837-1838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0033"/>
                </a:solidFill>
                <a:latin typeface="Arial"/>
                <a:ea typeface="Times New Roman"/>
              </a:rPr>
              <a:t>2.1</a:t>
            </a:r>
            <a:r>
              <a:rPr b="1" lang="fr-CA" sz="4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    </a:t>
            </a:r>
            <a:r>
              <a:rPr b="1" lang="fr-CA" sz="4400" spc="-1" strike="noStrike">
                <a:solidFill>
                  <a:srgbClr val="ff0033"/>
                </a:solidFill>
                <a:latin typeface="Arial"/>
                <a:ea typeface="Times New Roman"/>
              </a:rPr>
              <a:t>LES FORCES TRADITIONNALIST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«L’agriculturisme»</a:t>
            </a: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: -  valorise la vie rurale qui aide à conserver les valeurs     traditionnelles (famille – travail – religion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’agriculture doit demeurer la base de l’économie car elle évite l’aggravation des problèmes de chôma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0033"/>
                </a:solidFill>
                <a:latin typeface="Arial"/>
                <a:ea typeface="Times New Roman"/>
              </a:rPr>
              <a:t>1.4</a:t>
            </a:r>
            <a:r>
              <a:rPr b="1" lang="fr-CA" sz="3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   </a:t>
            </a:r>
            <a:r>
              <a:rPr b="1" lang="fr-CA" sz="3600" spc="-1" strike="noStrike">
                <a:solidFill>
                  <a:srgbClr val="ff0033"/>
                </a:solidFill>
                <a:latin typeface="Arial"/>
                <a:ea typeface="Times New Roman"/>
              </a:rPr>
              <a:t>LA SOCIÉTÉ DE CONSOM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2361960"/>
            <a:ext cx="9144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’augmentation du pouvoir d’achat et la publicité commerciale incitent les gens à améliorer leurs conditions de vie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fr-C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veut 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914400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fr-CA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Le rôle de l’Église</a:t>
            </a: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: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nte de conserver sa présence dans tous les secteu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conteste sa présence dans le domaine des services sociaux (éducation, soins aux malades, secours aux miséreux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817236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1125360"/>
            <a:ext cx="9144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plessis se montre «large» envers le clergé et les laisse conserver leur rôle. Il les subvention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 Québec, la religion demeure très présente. Elle sert d’élément d’unité du peup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0" y="1844280"/>
            <a:ext cx="914400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’Église lutte contre le socialisme et le communis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À la lutte des classes, l’Église propose l’harmonie patrons/ouvri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1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2205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ndant que le gouvernement fédéral intervient dans différents domaines, le gouvernement du Québec joue plutôt un rôle de soutien 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142920"/>
            <a:ext cx="9144000" cy="67150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r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ébec subventionne les communautés religieuses pour qu’elles s’occupent du domaine soci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692280"/>
            <a:ext cx="9144000" cy="19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fr-C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économie, le gouvernement du Québec mettra en place des conditions favorables à l’implantation d’entreprises privées et à l’entrée de capitaux étrangers (investissements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3068640"/>
            <a:ext cx="91440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7561440" cy="6873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0"/>
            <a:ext cx="9325080" cy="46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36000" anchor="t">
            <a:normAutofit fontScale="92000"/>
          </a:bodyPr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minuer les travaux domestiques avec les électroménag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3864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éussir en gagnant le plus d’argent po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4533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ir en balade au chalet dans son auto neu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81516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fr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r des vacances en Nouvelle-Angleter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10920" y="16286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arder la télévision, aller au cinéma et écouter de la musiqu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716360" y="0"/>
            <a:ext cx="3971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134136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 mode de vie des Québécois est influencé par le modèle américain de l’American  Way of Life  basé sur 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réussite individuel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       </a:t>
            </a: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 confort matérie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17:46:00Z</dcterms:created>
  <dc:creator>user</dc:creator>
  <dc:description/>
  <dc:language>en-US</dc:language>
  <cp:lastModifiedBy>Tech</cp:lastModifiedBy>
  <dcterms:modified xsi:type="dcterms:W3CDTF">2011-05-24T18:23:42Z</dcterms:modified>
  <cp:revision>15</cp:revision>
  <dc:subject/>
  <dc:title>1.4   LA SOCIÉTÉ DE CONSOMMATION</dc:title>
</cp:coreProperties>
</file>