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4E4-E7B6-483F-BFDB-A279B2BF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2BC-6053-4411-8B6A-C8CC1343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DE5-9739-42BA-A135-9889B8D1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837-C007-46CE-8C37-0A9BD942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4A07-7B9E-44FC-88BB-EBDE6E84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269A-5612-42B1-8713-CB7AD041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48EC-F07C-4C83-810E-B70753CC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EB54-6EBA-43D9-95E1-88D49023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3A0B-11B9-499B-9D4E-B50F2F3B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691A-0ADB-4EF0-805B-598F5B43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9186-47AC-45ED-9FA7-77FE30BD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DFB-7DBC-413A-AD1C-80CE8B9E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1858-F19C-4BBE-8A7D-01216167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CCBE-136D-4472-A1D5-1E19056E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1FF0-6488-41C5-AC7F-97FD09D1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EA7B-8BF8-434E-9561-0479C1B5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2F75-7734-42CC-9612-D327EE65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B09-083B-452C-A3D3-34DBC9A3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10D-528F-453A-B52A-436A9885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B9B-0EA2-4F54-A475-17F88640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A93-DEF0-411E-9A90-FB7A0FE9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8FE-3884-4D44-A964-A8431CA6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50C-AC93-45DE-8C10-32384F1A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514-36D0-4022-969D-D8CE66F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6ECB-A8CF-4AC3-839A-8520D125E4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27C4-9D82-4080-A492-47623388A2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cc00"/>
                </a:solidFill>
                <a:latin typeface="Arial Black"/>
              </a:rPr>
              <a:t>CHAPITRE 7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NAISSANCE DU QUÉBEC MOD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1960-1970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. Baisse de la ferveur religieuse :</a:t>
            </a: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unions li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augmentation des divorces</a:t>
            </a:r>
            <a:r>
              <a:rPr b="1" lang="fr-FR" sz="2800" spc="-1" strike="noStrike">
                <a:solidFill>
                  <a:srgbClr val="9ce15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9144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58840"/>
            <a:ext cx="450072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Baisse de l’immigration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On vient maintenant d’Asie, d’Amérique latine,d’Haïti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On s’installe surtout à Montréal et on adopte     l’angl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772160" y="0"/>
            <a:ext cx="437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972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44"/>
                </a:solidFill>
                <a:latin typeface="Arial Black"/>
                <a:ea typeface="Times New Roman"/>
              </a:rPr>
              <a:t>. Hausse de l’émigration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12960" y="552240"/>
            <a:ext cx="91566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44"/>
                </a:solidFill>
                <a:latin typeface="Arial"/>
                <a:ea typeface="Times New Roman"/>
              </a:rPr>
              <a:t>	</a:t>
            </a:r>
            <a:r>
              <a:rPr b="1" lang="fr-CA" sz="1800" spc="-1" strike="noStrike">
                <a:solidFill>
                  <a:srgbClr val="000044"/>
                </a:solidFill>
                <a:latin typeface="Arial"/>
                <a:ea typeface="Times New Roman"/>
              </a:rPr>
              <a:t>Des gens du Québec s’en vont ailleurs au Canada ou dans d’autres pa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Tout cela entraîne la baisse de la population québécoise par rapport au Can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nséquences de cela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s institutions scolaires et le marché du travail sont envahis par des je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a survie de la langue française est menacée par l’anglicis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64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es façons de vivre changent 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onfort matér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pport d’argent plus grand de la femme qui travai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Hausse des sal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 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ccès au crédit et nouveaux centres commerciaux (endett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a culture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Influence américaine mais on témoigne aussi de l’identité québécoise avec des créateurs d’ici dans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ha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iné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théâ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près la mort de Duplessis, son successeur, Paul Sauvé, lançait le slogan «Désormais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l avait mis en place un train de mesures visant à moderniser le Québe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lheureusement, il mourut quelques mois après sa nomin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n tend à croire que s’il avait pu vivre plus longtemps, il aurait été le vrai père de la «Révolution tranquille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a diversité ethnique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ntraîne des changements dans les mentalités et dans les habitudes de v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On s’ouvre au mo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2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a laïcisation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181440" y="980640"/>
            <a:ext cx="9325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s églises sont déserté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a pratique religieuse est délaiss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rêtres et religieuses quittent les ord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on se tourne vers la croiss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ersonnelle et les regroupements  alternati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N.B. L’augmentation des richesses est due à 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l’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introduction de techniques plus produ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es techniques permettent de produire plus de richesses avec moins de trav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es techniques permettent l’extension du secteur de services où le travail des femmes est impor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Le crédit est plus accessible car les revenus sont plus élevé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</a:t>
            </a:r>
            <a:r>
              <a:rPr b="1" lang="fr-CA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    </a:t>
            </a: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A RÉVOLUTION TRANQUIL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3048120"/>
            <a:ext cx="9144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Selon Lucia Ferretti de l’UQTR, c’est le moment où l’État québécois a été à la fois intensément réformiste et intensément nationaliste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06728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 Black"/>
                <a:ea typeface="Times New Roman"/>
              </a:rPr>
              <a:t>En 1960, après 16 années dans l’opposition, le parti Libéral prend le pouvoir au Québe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2743200"/>
            <a:ext cx="39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ef : Jean Le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Équipe du tonnerre : nom donné à ses ministres et dépu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logans : </a:t>
            </a: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«C’est le temps que ça change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« Maîtres chez nous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4043520" y="0"/>
            <a:ext cx="51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Au niveau du parti Libéral, on reconnaît deux tendances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-</a:t>
            </a: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 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aile conservatrice et fédéraliste (avec Jean Les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-</a:t>
            </a: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 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aile réformiste et nationaliste (avec René Lévesq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84360" y="1500120"/>
            <a:ext cx="77403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5404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ransformation en profondeur de la société québécoise</a:t>
            </a:r>
            <a:r>
              <a:rPr b="1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e la vie quotidienne jusqu’à la croyance religi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es relation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es identités nat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uvelle vision de l’économie</a:t>
            </a:r>
            <a:r>
              <a:rPr b="1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Baby boomers arrivent à l’âge adul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285264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S’affichent comme Québécois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Nouveaux aspects de la sociét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. Baisse du taux de natalité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Beaucoup de femmes travaillent et veulent faire carrière avant d’élever des enf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Utilisation de contraceptifs plus effic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2657520"/>
            <a:ext cx="9144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0:35:48Z</dcterms:created>
  <dc:creator>user</dc:creator>
  <dc:description/>
  <dc:language>en-US</dc:language>
  <cp:lastModifiedBy>Tech</cp:lastModifiedBy>
  <dcterms:modified xsi:type="dcterms:W3CDTF">2011-05-24T18:53:03Z</dcterms:modified>
  <cp:revision>13</cp:revision>
  <dc:subject/>
  <dc:title>CHAPITRE 7</dc:title>
</cp:coreProperties>
</file>