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CDF9-F3F2-4A7B-8312-2A449DF3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79C-CB38-410D-8B89-020EACAE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090-521C-437C-80B9-F1E2FF52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4A2-3DBE-444F-A30C-89F957E3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7CC5-29F2-460F-BF76-71A720AC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337A-E8B2-4CF5-8797-4521BD48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7F9B-1F56-4B0B-9D8E-CEC5F273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5AAB-66DB-4C47-B8FD-F4976813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AB37-15DF-40B1-8558-45BD013A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B2DD-F2D7-49A4-A874-3539A3F3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E9B0-CE11-4411-AA2C-0DD60123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DD0-C806-40BD-8948-A4493904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CCDE-D134-4E1B-8BAE-C3B65948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8670-A791-43FA-8ADE-ABC9A3D4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4E45-B820-40FA-ACCB-7E2B9C07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08ED-DCFA-46D3-8FE9-9E113C15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16D5-5DBE-408D-8009-5A06394D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896-1026-4789-A5C6-6E1A4DB0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3372-2064-4311-A6C3-EA4EE245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9A7-ACCE-4024-A01D-15DCBDCF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3904-92BA-4C42-B97B-3494FAC0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9C5-AA0C-407D-B295-08B9D138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9F5-ED4B-43E5-9095-B6AB5323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54F-BE00-4E44-A807-6E78C8A7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7CCE-4778-4CFA-B685-3FE2BEEAA5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D661-5ED5-4C2F-A9D6-05A4DDBF76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cc00"/>
                </a:solidFill>
                <a:latin typeface="Arial Black"/>
              </a:rPr>
              <a:t>CHAPITRE 7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NAISSANCE DU QUÉBEC MODER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1960-1970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. Baisse de la ferveur religieuse :</a:t>
            </a: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unions lib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augmentation des divorces</a:t>
            </a:r>
            <a:r>
              <a:rPr b="1" lang="fr-FR" sz="2800" spc="-1" strike="noStrike">
                <a:solidFill>
                  <a:srgbClr val="9ce15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2708280"/>
            <a:ext cx="9144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58840"/>
            <a:ext cx="450072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Baisse de l’immigration :</a:t>
            </a:r>
            <a:r>
              <a:rPr b="0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64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On vient maintenant d’Asie, d’Amérique latine,d’Haïti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On s’installe surtout à Montréal et on adopte     l’angla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772160" y="0"/>
            <a:ext cx="437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585720"/>
            <a:ext cx="9144000" cy="62722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972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44"/>
                </a:solidFill>
                <a:latin typeface="Arial Black"/>
                <a:ea typeface="Times New Roman"/>
              </a:rPr>
              <a:t>. Hausse de l’émigration :</a:t>
            </a:r>
            <a:r>
              <a:rPr b="0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12960" y="552240"/>
            <a:ext cx="91566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44"/>
                </a:solidFill>
                <a:latin typeface="Arial"/>
                <a:ea typeface="Times New Roman"/>
              </a:rPr>
              <a:t>	</a:t>
            </a:r>
            <a:r>
              <a:rPr b="1" lang="fr-CA" sz="1800" spc="-1" strike="noStrike">
                <a:solidFill>
                  <a:srgbClr val="000044"/>
                </a:solidFill>
                <a:latin typeface="Arial"/>
                <a:ea typeface="Times New Roman"/>
              </a:rPr>
              <a:t>Des gens du Québec s’en vont ailleurs au Canada ou dans d’autres pa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9144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9ce157"/>
                </a:solidFill>
                <a:latin typeface="Arial"/>
                <a:ea typeface="Times New Roman"/>
              </a:rPr>
              <a:t>Tout cela entraîne la baisse de la population québécoise par rapport au Canad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onséquences de cela 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s institutions scolaires et le marché du travail sont envahis par des jeu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a survie de la langue française est menacée par l’anglicis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64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es façons de vivre changent 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Confort matér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Apport d’argent plus grand de la femme qui travail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Hausse des sal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 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Accès au crédit et nouveaux centres commerciaux (endett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a culture :</a:t>
            </a:r>
            <a:r>
              <a:rPr b="0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Influence américaine mais on témoigne aussi de l’identité québécoise avec des créateurs d’ici dans 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cha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ciné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théâ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près la mort de Duplessis, son successeur, Paul Sauvé, lançait le slogan «Désormais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l avait mis en place un train de mesures visant à moderniser le Québe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lheureusement, il mourut quelques mois après sa nomin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n tend à croire que s’il avait pu vivre plus longtemps, il aurait été le vrai père de la «Révolution tranquille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a diversité ethnique :</a:t>
            </a:r>
            <a:r>
              <a:rPr b="0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Entraîne des changements dans les mentalités et dans les habitudes de v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On s’ouvre au mo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92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a laïcisation :</a:t>
            </a:r>
            <a:r>
              <a:rPr b="0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181440" y="980640"/>
            <a:ext cx="9325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s églises sont déserté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a pratique religieuse est délaiss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prêtres et religieuses quittent les ord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on se tourne vers la croiss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personnelle et les regroupements  alternati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N.B. L’augmentation des richesses est due à 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l’</a:t>
            </a: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introduction de techniques plus produ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ces techniques permettent de produire plus de richesses avec moins de trav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ces techniques permettent l’extension du secteur de services où le travail des femmes est import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Le crédit est plus accessible car les revenus sont plus élevé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1.</a:t>
            </a:r>
            <a:r>
              <a:rPr b="1" lang="fr-CA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    </a:t>
            </a: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A RÉVOLUTION TRANQUILL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3048120"/>
            <a:ext cx="9144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Selon Lucia Ferretti de l’UQTR, c’est le moment où l’État québécois a été à la fois intensément réformiste et intensément nationaliste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06728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 Black"/>
                <a:ea typeface="Times New Roman"/>
              </a:rPr>
              <a:t>En 1960, après 16 années dans l’opposition, le parti Libéral prend le pouvoir au Québe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2743200"/>
            <a:ext cx="399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ef : Jean Le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Équipe du tonnerre : nom donné à ses ministres et dépu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logans : </a:t>
            </a:r>
            <a:r>
              <a:rPr b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«C’est le temps que ça change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« Maîtres chez nous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4043520" y="0"/>
            <a:ext cx="51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Au niveau du parti Libéral, on reconnaît deux tendances 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-</a:t>
            </a:r>
            <a:r>
              <a:rPr b="1" lang="fr-CA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 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aile conservatrice et fédéraliste (avec Jean Les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-</a:t>
            </a:r>
            <a:r>
              <a:rPr b="1" lang="fr-CA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 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aile réformiste et nationaliste (avec René Lévesq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84360" y="1500120"/>
            <a:ext cx="77403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54040"/>
            <a:ext cx="77724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ransformation en profondeur de la société québécoise</a:t>
            </a:r>
            <a:r>
              <a:rPr b="1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De la vie quotidienne jusqu’à la croyance religi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Des relation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Des identités nat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uvelle vision de l’économie</a:t>
            </a:r>
            <a:r>
              <a:rPr b="1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Baby boomers arrivent à l’âge adul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2852640"/>
            <a:ext cx="71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S’affichent comme Québécois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Nouveaux aspects de la société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. Baisse du taux de natalité :</a:t>
            </a:r>
            <a:r>
              <a:rPr b="0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Beaucoup de femmes travaillent et veulent faire carrière avant d’élever des enf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Utilisation de contraceptifs plus effic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2657520"/>
            <a:ext cx="9144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0:35:48Z</dcterms:created>
  <dc:creator>user</dc:creator>
  <dc:description/>
  <dc:language>en-US</dc:language>
  <cp:lastModifiedBy>Tech</cp:lastModifiedBy>
  <dcterms:modified xsi:type="dcterms:W3CDTF">2011-05-24T18:53:03Z</dcterms:modified>
  <cp:revision>13</cp:revision>
  <dc:subject/>
  <dc:title>CHAPITRE 7</dc:title>
</cp:coreProperties>
</file>