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64E-4BB9-49D8-B7A0-BC0616A3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3F1-D995-4FEF-8758-B9670E04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765-8DE9-4C81-B29C-7079ED7A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BCB-7267-457B-9EBA-1738D5FF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74CB-ADE2-4103-BC95-4A899A2C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1715-6079-4402-A1D1-60D30A87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B60E-C063-4E79-BF87-C1A2C4F5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5180-D941-4CD8-80D3-F894EE35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000A-B421-41AB-B764-4D5BE7D9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92FD-4B52-4326-9E07-8EB9C733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1B44-78C7-4D0B-B31D-0A898954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252-47A7-43CE-B363-C5DD59E1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E43C-536D-4D38-B0D3-355A18B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4551-5C97-4DD0-B4F7-7DF3B40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552C-EA67-4FA8-AD04-301D2D20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8E3B-F151-4A75-966D-EC1B4D06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EAE6-63DD-43F7-86FB-DC6A2729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3B7-B3A6-41E7-874B-32666F2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2CD-687E-43F8-872C-5B9589AF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3E2-BFCB-485E-8037-C7684441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FB5-35C0-4FE4-9382-3F36E8AC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E97-DCC7-4759-815E-638B0323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71D-9A21-4C8C-806E-CF957DB2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AAE-5ACD-49CC-94ED-7102C797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1C3-2EFF-4AAB-9AA0-0E40EB70FC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111F-A4CA-4CA9-B8A5-33F1DCC469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2  LES CHANGEMENTS ÉCONOMIQU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1148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(1960-197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1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684360" y="1268280"/>
            <a:ext cx="982836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Intervention de l’État dans le développement des entreprises canadiennes-françai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gouvernement Lesage s’implique parfois </a:t>
            </a:r>
            <a:r>
              <a:rPr b="1" lang="fr-CA" sz="3200" spc="-1" strike="noStrike" u="sng">
                <a:solidFill>
                  <a:srgbClr val="9ce157"/>
                </a:solidFill>
                <a:uFillTx/>
                <a:latin typeface="Arial"/>
                <a:ea typeface="Times New Roman"/>
              </a:rPr>
              <a:t>directement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(sidérurgie) en mettant sur pied une usine ou </a:t>
            </a:r>
            <a:r>
              <a:rPr b="1" lang="fr-CA" sz="3200" spc="-1" strike="noStrike" u="sng">
                <a:solidFill>
                  <a:srgbClr val="9ce157"/>
                </a:solidFill>
                <a:uFillTx/>
                <a:latin typeface="Arial"/>
                <a:ea typeface="Times New Roman"/>
              </a:rPr>
              <a:t>indirectement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 subventionnant (Marine industri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Création de nombreuses sociétés d’État 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SGF : société générale de financement pour renflouer des compagnies canadiennes-françai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CDP : caisse de dépôt et de placement qui gère les fonds de pension et la Régie des rentes. Réservoir de capitaux pour l’État et l’entreprise priv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D’autres sociétés seront créées pour aider les entrepri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La nationalisation de l’électricité sera l’une des plus importantes réformes économiques 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Service plus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Diminution du coût à certains endro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Promotion de cadres francoph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2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Les politiques suivantes seront mises en place pour moderniser la structure de l’économie 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Soutien à l’implantation d’industries nouvelles à haut niveau technolog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Création de sociétés d’État pour l’exploitation minière et pour la sidérurgie (SOQUEM et IDBE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Soutien au développement d’industries de transformation des ressources naturelles québécoi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Politiques d’achats gouvernementaux favorisant les entreprises québécoi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Tout cela entraîne une plus grande visibilité des administrateurs francophones.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3</a:t>
            </a:r>
            <a:r>
              <a:rPr b="1" lang="fr-CA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S POLITIQUES SOCIAL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Elles représentent le cœur de la Révolution tranqu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clergé perd son emprise sur la socié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Début de l’état providence avec des réformes majeures en éducation, en santé et services sociaux et pour la sécurité du reven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gouvernement devient le plus gros employeur de la provi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oursuite de la croissance économique de l’après-guer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tmosphère d’optimis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u cours de cette période, on aura plusieurs réalisations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SOCIAL :</a:t>
            </a: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rogramme d’assurance-hospital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réforme des services hospita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réation du ministère de la Famille et du Bien-être soc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nouveau code du travail (facilite la syndicalisation et droit de grè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égalité juridique de la femme mariée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ÉDUCATION :</a:t>
            </a: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</a:t>
            </a:r>
            <a:r>
              <a:rPr b="1" lang="fr-CA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réation de la Commission Parent pour recommander les améliorations à apporter au système. Ensuite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C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éation du ministère de l’É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C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éation des commissions scolaires régionales et des polyval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I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nstruction publique obligatoire jusqu’à 16 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G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atuité des manuels scol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T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ansport étu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C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éation de l’éducation permanente pour les étudiants adul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ela a permis un grand rattrapage des femmes, des francophones et des jeunes de milieux défavorisé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CULTURE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réation du ministère des Affaires   cultur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École nationale de théâ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onseil des 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Office de la langue frança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-1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AU NIVEAU INTERNATIONAL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Québec accroît sa prés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1961 : création de la Maison du Québec à Paris et ententes conclues avec la France sur la culture et l’éducation. Ottawa protes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D’autres délégations seront ouvertes   (Londres et New-York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076720" cy="4145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458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44"/>
                </a:solidFill>
                <a:latin typeface="Arial"/>
                <a:ea typeface="Times New Roman"/>
              </a:rPr>
              <a:t>Métro de Montréal en 19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086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6202080"/>
            <a:ext cx="914400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44"/>
                </a:solidFill>
                <a:latin typeface="Arial"/>
                <a:ea typeface="Times New Roman"/>
              </a:rPr>
              <a:t>Expo universelle en 19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5300640"/>
            <a:ext cx="914400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44"/>
                </a:solidFill>
                <a:latin typeface="Arial"/>
                <a:ea typeface="Times New Roman"/>
              </a:rPr>
              <a:t>Barrages hydroélectriques (Mani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s emplois augmentent dans le secteur tertiaire (notamment en santé et en éduc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mélioration des salaires (construction, services publics et parapublic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Meilleures conventions collec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MAIS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près 1967, on assiste à une récession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hausse du chômage </a:t>
            </a:r>
            <a:br>
              <a:rPr sz="2800"/>
            </a:b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surtout chez les  femmes et les je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ertaines régions sont en difficulté </a:t>
            </a:r>
            <a:br>
              <a:rPr sz="2800"/>
            </a:b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(Abitibi, Gaspésie, Lac-St-Jean, Saguen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hausse des prix à la conso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«STAGFLATION» : stagnation de la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  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vec inflation galop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Pendant cette période (1960-1970), on passera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’un nationalisme canadien-français défensif vis-à-vis d’Ottawa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… 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à un nationalisme plus revendicate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olitiques plus autonomistes du gouvernement Le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mbauche de cadres francophones dans la fonction publ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Nationalisation de l’électricité où les ingénieurs et les administrateurs sont franco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18:12:21Z</dcterms:created>
  <dc:creator>user</dc:creator>
  <dc:description/>
  <dc:language>en-US</dc:language>
  <cp:lastModifiedBy>Tech</cp:lastModifiedBy>
  <dcterms:modified xsi:type="dcterms:W3CDTF">2011-05-24T19:23:39Z</dcterms:modified>
  <cp:revision>19</cp:revision>
  <dc:subject/>
  <dc:title>1.2  LES CHANGEMENTS ÉCONOMIQUES</dc:title>
</cp:coreProperties>
</file>