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56A-8790-41F8-872B-51854A80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B2D-480E-493B-AF19-3A435CB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ED5-2557-42C6-9742-2EF9D6AA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F7E-4D49-434D-BD65-B0952DE5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053-C491-44D2-B2A0-23693CFB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CB1-5BC4-4EF8-A541-F577B94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2A6C-ECB7-4D44-A0BF-284AF3C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381D-C368-4F24-828F-2FAB035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5853-977E-49DC-A113-73AFEF03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87DE-AFAE-41E7-BAA9-D751361A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5B5-D8EC-4F8B-A924-553A3C0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900-49B6-4FF4-BF47-420AD0C6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5926-4040-4B8E-95BF-10133EC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D58-A244-4A93-A2A6-46DA735E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AACB-36FA-4CFF-B4D7-A5D5D242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1C05-5864-4700-A3C3-4660C1D5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624-A9A5-41C1-89E8-B7479F5A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D1F-3993-4F91-BFAF-2DE9572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8C5-FC65-4974-AFB2-0321295B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6B1-78CE-4CFC-A796-C1791E96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493-3D8A-4C9E-9E9C-FFE9AD9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539-242E-461D-A273-B22BA6C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97B-75DE-44B0-977A-A987AD2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8DA-1F8C-49F6-8C0E-68B5F7B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6B6-28F4-4267-B527-4E3E60851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B67-A6EA-4F3D-B676-B33856955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2  LES CHANGEMENTS ÉCONOMIQU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1148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(1960-197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684360" y="1268280"/>
            <a:ext cx="982836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Intervention de l’État dans le développement des entreprises canadiennes-frança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gouvernement Lesage s’implique parfois </a:t>
            </a:r>
            <a:r>
              <a:rPr b="1" lang="fr-CA" sz="3200" spc="-1" strike="noStrike" u="sng">
                <a:solidFill>
                  <a:srgbClr val="9ce157"/>
                </a:solidFill>
                <a:uFillTx/>
                <a:latin typeface="Arial"/>
                <a:ea typeface="Times New Roman"/>
              </a:rPr>
              <a:t>directement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(sidérurgie) en mettant sur pied une usine ou </a:t>
            </a:r>
            <a:r>
              <a:rPr b="1" lang="fr-CA" sz="3200" spc="-1" strike="noStrike" u="sng">
                <a:solidFill>
                  <a:srgbClr val="9ce157"/>
                </a:solidFill>
                <a:uFillTx/>
                <a:latin typeface="Arial"/>
                <a:ea typeface="Times New Roman"/>
              </a:rPr>
              <a:t>indirectement </a:t>
            </a: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n subventionnant (Marine industri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Création de nombreuses sociétés d’État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SGF : société générale de financement pour renflouer des compagnies canadiennes-frança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CDP : caisse de dépôt et de placement qui gère les fonds de pension et la Régie des rentes. Réservoir de capitaux pour l’État et l’entreprise pri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D’autres sociétés seront créées pour aider les entrepri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La nationalisation de l’électricité sera l’une des plus importantes réformes économiques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Service plus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Diminution du coût à certains endro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Promotion de cadres franco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2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 </a:t>
            </a: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Les politiques suivantes seront mises en place pour moderniser la structure de l’économie 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Soutien à l’implantation d’industries nouvelles à haut niveau technolog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Création de sociétés d’État pour l’exploitation minière et pour la sidérurgie (SOQUEM et IDBE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Soutien au développement d’industries de transformation des ressources naturelles québéco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98d43"/>
                </a:solidFill>
                <a:latin typeface="Arial"/>
                <a:ea typeface="Times New Roman"/>
              </a:rPr>
              <a:t>Politiques d’achats gouvernementaux favorisant les entreprises québéco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 Black"/>
                <a:ea typeface="Times New Roman"/>
              </a:rPr>
              <a:t>Tout cela entraîne une plus grande visibilité des administrateurs francophones.</a:t>
            </a:r>
            <a:r>
              <a:rPr b="0" lang="fr-CA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1.3</a:t>
            </a:r>
            <a:r>
              <a:rPr b="1" lang="fr-CA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 </a:t>
            </a: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LES POLITIQUES SOCIAL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98d43"/>
                </a:solidFill>
                <a:latin typeface="Arial"/>
                <a:ea typeface="Times New Roman"/>
              </a:rPr>
              <a:t>Elles représentent le cœur de la Révolution tranqui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clergé perd son emprise sur la soci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ébut de l’état providence avec des réformes majeures en éducation, en santé et services sociaux et pour la sécurité du reve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gouvernement devient le plus gros employeur de la prov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oursuite de la croissance économique de l’après-gu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tmosphère d’optim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u cours de cette période, on aura plusieurs réalisations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SOCIAL :</a:t>
            </a: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rogramme d’assurance-hospita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réforme des services hospita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inistère de la Famille et du Bien-être so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ouveau code du travail (facilite la syndicalisation et droit de grè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égalité juridique de la femme mariée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ÉDUCATION :</a:t>
            </a: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réation de la Commission Parent pour recommander les améliorations à apporter au système. Ensuite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u ministère de l’É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es commissions scolaires régionales et des polyval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I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nstruction publique obligatoire jusqu’à 16 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G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atuité des manuels scol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T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ansport étu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C</a:t>
            </a:r>
            <a:r>
              <a:rPr b="1" lang="fr-CA" sz="2400" spc="-1" strike="noStrike">
                <a:solidFill>
                  <a:srgbClr val="9ce157"/>
                </a:solidFill>
                <a:latin typeface="Arial"/>
                <a:ea typeface="Times New Roman"/>
              </a:rPr>
              <a:t>réation de l’éducation permanente pour les étudiants adul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Cela a permis un grand rattrapage des femmes, des francophones et des jeunes de milieux défavoris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CULTURE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réation du ministère des Affaires   culture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École nationale de théâ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onseil des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Office de la langue frança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1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98d43"/>
                </a:solidFill>
                <a:latin typeface="Arial Black"/>
                <a:ea typeface="Times New Roman"/>
              </a:rPr>
              <a:t>AU NIVEAU INTERNATIONAL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 Québec accroît sa prés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1961 : création de la Maison du Québec à Paris et ententes conclues avec la France sur la culture et l’éducation. Ottawa prote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D’autres délégations seront ouvertes   (Londres et New-Yor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076720" cy="4145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44"/>
                </a:solidFill>
                <a:latin typeface="Arial"/>
                <a:ea typeface="Times New Roman"/>
              </a:rPr>
              <a:t>Métro de Montréal e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086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202080"/>
            <a:ext cx="9144000" cy="6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44"/>
                </a:solidFill>
                <a:latin typeface="Arial"/>
                <a:ea typeface="Times New Roman"/>
              </a:rPr>
              <a:t>Expo universelle en 196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5300640"/>
            <a:ext cx="914400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44"/>
                </a:solidFill>
                <a:latin typeface="Arial"/>
                <a:ea typeface="Times New Roman"/>
              </a:rPr>
              <a:t>Barrages hydroélectriques (Man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Les emplois augmentent dans le secteur tertiaire (notamment en santé et en éduc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Amélioration des salaires (construction, services publics et parapublic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Meilleures conventions coll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AIS 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près 1967, on assiste à une récession 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u chômage </a:t>
            </a:r>
            <a:br>
              <a:rPr sz="2800"/>
            </a:b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surtout chez les  femmes et les je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certaines régions sont en difficulté </a:t>
            </a:r>
            <a:br>
              <a:rPr sz="2800"/>
            </a:b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(Abitibi, Gaspésie, Lac-St-Jean, Saguen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hausse des prix à la conso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«STAGFLATION» : stagnation de la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 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avec inflation galop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Pendant cette période (1960-1970), on passer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d’un nationalisme canadien-français défensif vis-à-vis d’Ottawa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… </a:t>
            </a:r>
            <a:r>
              <a:rPr b="1" lang="fr-CA" sz="2800" spc="-1" strike="noStrike">
                <a:solidFill>
                  <a:srgbClr val="9ce157"/>
                </a:solidFill>
                <a:latin typeface="Arial"/>
                <a:ea typeface="Times New Roman"/>
              </a:rPr>
              <a:t>à un nationalisme plus revendicate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Politiques plus autonomistes du gouvernement Le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Embauche de cadres francophones dans la fonction publ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9ce157"/>
                </a:solidFill>
                <a:latin typeface="Arial"/>
                <a:ea typeface="Times New Roman"/>
              </a:rPr>
              <a:t>Nationalisation de l’électricité où les ingénieurs et les administrateurs sont franco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18:12:21Z</dcterms:created>
  <dc:creator>user</dc:creator>
  <dc:description/>
  <dc:language>en-US</dc:language>
  <cp:lastModifiedBy>Tech</cp:lastModifiedBy>
  <dcterms:modified xsi:type="dcterms:W3CDTF">2011-05-24T19:23:39Z</dcterms:modified>
  <cp:revision>19</cp:revision>
  <dc:subject/>
  <dc:title>1.2  LES CHANGEMENTS ÉCONOMIQUES</dc:title>
</cp:coreProperties>
</file>