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EF7-E8F7-4801-B49D-4D9604DF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CC4-E03D-4CDE-8078-AAC2FEC5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8CC-CF3A-4722-9732-1915B31B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784-0995-4AE0-8CB8-5B86679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771C-5C66-48B4-8F77-F3B279E3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D24-B927-4B15-B27A-5A733DD1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C94E-C807-4CD1-9D32-25DC2A62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33DC-1D78-4F4E-AFDE-42BC3894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636-EF6C-480A-81CD-9E6962A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4C05-1A2D-42D1-AB19-39D6BBF2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03E5-9B13-43C7-BFEA-5704199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51B-1D25-4713-9E4C-76D9570A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FB2-0AD7-42AC-9384-1CE3D0C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D166-F776-49F8-80FB-47DEB43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491E-5BF8-47A3-BBF0-65B55922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2434-8937-496B-91FD-188FD428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714F-9966-420D-9750-718C24C0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6CD-E18E-41C4-A5DB-BE3417B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463-D7C5-4DBF-9E57-451D24CC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E77-8528-4652-93A0-F76FB89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C1B-8BFE-4BC8-BD12-C6129CDE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784-1A65-4E1E-B119-86979E2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D22-3166-483A-B316-2D61B24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483-8F66-4634-A606-094FFC3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0445-FA0B-49E1-8468-DA40EE53A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8AE1-D2C9-45D8-80FD-7DD360AD3C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4</a:t>
            </a:r>
            <a:r>
              <a:rPr b="1" lang="fr-C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’APPAREIL D’ÉTAT 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pparition des technocrates : conseillers dans les ministères et organismes d’É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gagement de plusieurs fonctionnai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La décolonisation </a:t>
            </a:r>
            <a:br>
              <a:rPr sz="3600"/>
            </a:b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(et l’indépendance des colonies) </a:t>
            </a:r>
            <a:br>
              <a:rPr sz="3600"/>
            </a:b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se fait au niveau international </a:t>
            </a:r>
            <a:br>
              <a:rPr sz="3600"/>
            </a:b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et influence le Québe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6</a:t>
            </a:r>
            <a:r>
              <a:rPr b="1" lang="fr-CA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S AUTOCHTONES ENTRE DISCRIMINATION ET ASSIMIL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Se veulent une nation différ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Revendiquent la reconnaissance de leurs dro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ontestent la Loi des Indiens car elle est discriminato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1960 : ont le droit de vote au fédéral. Plusieurs l’ignorent car ils ne se reconnaissent pas dans ce gouvernement de Blan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e trois associations : </a:t>
            </a:r>
            <a:br>
              <a:rPr sz="3200"/>
            </a:b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Fraternité des Indiens du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ociété des Métis du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nuit Tapirisat du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1969 : droit de vote au Qué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Intéressé par le Grand-Nord, le Québec se met à s’occuper des Amérindiens selon ses champs d’a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</a:t>
            </a:r>
            <a:r>
              <a:rPr b="1" lang="fr-C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</a:t>
            </a:r>
            <a:r>
              <a:rPr b="1" lang="fr-CA" sz="40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HANGEMENTS IRRÉVERSIBLES (1966-1970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Les idées de changement se sont manifestées avant la Révolution tranquille qui fut l’aboutissement des luttes sociales amorcées depuis le début du siè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067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1 LE RETOUR DE L’UNION NATIONA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aniel Johnson (père) (1966-196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Jean-Jacques Bertrand (1968-197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 1966, l’Union nationale est élue pour mettre fin aux réfor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n’a pas le choix de poursuivre les réfor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Mort de Johnson en 1968 à Manic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l est remplacé par Bertrand jusqu’aux élections de 197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olitiques des gouvernements </a:t>
            </a:r>
            <a:br>
              <a:rPr sz="3200"/>
            </a:b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Johnson et Bertrand 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Agriculture 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4400" spc="-1" strike="noStrike">
                <a:solidFill>
                  <a:srgbClr val="9ce157"/>
                </a:solidFill>
                <a:latin typeface="Arial"/>
                <a:ea typeface="Times New Roman"/>
              </a:rPr>
              <a:t>Assurance récol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400" spc="-1" strike="noStrike">
                <a:solidFill>
                  <a:srgbClr val="9ce157"/>
                </a:solidFill>
                <a:latin typeface="Arial"/>
                <a:ea typeface="Times New Roman"/>
              </a:rPr>
              <a:t>Loi des marchés agric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	</a:t>
            </a:r>
            <a:r>
              <a:rPr b="1" lang="fr-CA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Économie 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Entente avec Terre-Neuve pour les chutes Churchill (augmentation de la production hydroélectrique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Office de planification et de développ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8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Éducation 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CÉGE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Université du Québe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ÉN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211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Cultu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Radio-Québ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Bibliothèque nationale du Québ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Ministère des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oi 63 sur la langue (Événements de St-Léonard).</a:t>
            </a:r>
            <a:r>
              <a:rPr b="1" lang="fr-FR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0056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399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   </a:t>
            </a: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olitique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bolition du Conseil législa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ssemblée nationale au lieu d’assemblée légis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5764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cc3300"/>
                </a:solidFill>
                <a:latin typeface="Arial"/>
                <a:ea typeface="Times New Roman"/>
              </a:rPr>
              <a:t>International 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ffice franco-québéco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tentes avec la France (télécommunications, éducation et cultur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Rencontres avec des pays francoph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30840"/>
            <a:ext cx="35640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2</a:t>
            </a:r>
            <a:r>
              <a:rPr b="1" lang="fr-C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br>
              <a:rPr sz="2400"/>
            </a:br>
            <a:r>
              <a:rPr b="1" lang="fr-CA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RADICALISATION DES MOUVEMENTS SOCIAUX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356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Détérioration des relations État-syndicats 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7, loi spéciale pour le retour au travail des enseign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586320" y="0"/>
            <a:ext cx="555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À partir de 1963, on forme des Comités de citoyens : organisations qui regroupent les populations de quartiers défavorisés des vil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Ils réclament l’amélioration de la qualité de vi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Ces organisations sont à l’origine des mouvements populaires et communautaires actu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Mouvement étudiant : </a:t>
            </a:r>
            <a:br>
              <a:rPr sz="2800"/>
            </a:b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adopte un rôle similaire à celui des syndic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75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5</a:t>
            </a:r>
            <a:r>
              <a:rPr b="1" lang="fr-CA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 SYNDICALISME ET LA GAUCHE 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Nouvel élan du syndicalisme avec l’expansion du secteur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Code du travail facilite la syndicalisation et donne le droit de négociation et de grève dans le secteur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mouvement syndical est très présent et exerce des pressions sur la situation des travaille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00720" y="189000"/>
            <a:ext cx="4643280" cy="155628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44"/>
                </a:solidFill>
                <a:latin typeface="Arial Black"/>
              </a:rPr>
              <a:t>FTQ : secteur privé  </a:t>
            </a:r>
            <a:br>
              <a:rPr sz="3200"/>
            </a:br>
            <a:r>
              <a:rPr b="1" lang="fr-CA" sz="3200" spc="-1" strike="noStrike">
                <a:solidFill>
                  <a:srgbClr val="000044"/>
                </a:solidFill>
                <a:latin typeface="Arial Black"/>
              </a:rPr>
              <a:t>se rapproche du nationalis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44920" cy="587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4284720" cy="5877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EQ : se laïc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390920" cy="580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716360" cy="5805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 Black"/>
              </a:rPr>
              <a:t>CSN : perd son caractère catholi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Mouvement politique de gauche 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Groupes socialis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propose l’indépe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RIN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fondé en 1960 </a:t>
            </a:r>
            <a:br>
              <a:rPr sz="3200"/>
            </a:b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(Pierre Bourgault en est le présiden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Parti Pris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(1963-1968) rev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FLQ :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remières bombes en 196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8:10:11Z</dcterms:created>
  <dc:creator>user</dc:creator>
  <dc:description/>
  <dc:language>en-US</dc:language>
  <cp:lastModifiedBy>Tech</cp:lastModifiedBy>
  <dcterms:modified xsi:type="dcterms:W3CDTF">2011-05-24T20:02:01Z</dcterms:modified>
  <cp:revision>15</cp:revision>
  <dc:subject/>
  <dc:title>1.4  L’APPAREIL D’ÉTAT :</dc:title>
</cp:coreProperties>
</file>