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CB9-8C81-4562-9D50-FC4D8C60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0FA-F81C-4726-96D7-C610323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DAE-A27C-4221-9A0D-AF827BBD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862-CD5B-49AA-A1C2-02571C68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5DE-EDA8-4FC2-8645-1CA2CBC0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07FD-6A54-4230-A677-9BEAB019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346D-E80C-446A-9852-E7F7F6D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2B03-A705-46CE-909F-F4959CD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11FC-8108-46CC-A39C-133CC418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9E8E-49EE-4E92-8C20-C4552888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D7F-A919-4DF3-B622-5CA553C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4FD-1553-4CAB-9E1B-6216683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9EF-EAA3-4E49-A75D-EDB0EEB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7DAC-F46E-42D7-85C3-843043C6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F17-88CE-4DBF-9737-3EB02BBB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125E-2835-4A72-8C7B-A5B96899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985-84C8-4B6D-BC92-D4AE9EFA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37B-634B-4294-9253-9785FF4D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40-7286-4816-B4D9-B8B45886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89A-4DED-4CCE-819A-143ECB33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F2E-3F88-4E10-9F6D-A97AEA4B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6A5-6821-4A8F-A2AA-EE7EF40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C44-8EEC-4807-8EFD-916ABD0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A49-16FB-4896-8F4A-6614353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7B07-BE9E-4D07-9AEB-2FF5F5B355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0981-BE7E-4C8B-A9A9-C334940CD7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’APPAREIL D’ÉTAT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pparition des technocrates : conseillers dans les ministères et organismes d’É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gagement de plusieurs fonctionnai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La décolonisation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(et l’indépendance des colonies)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se fait au niveau international </a:t>
            </a:r>
            <a:br>
              <a:rPr sz="3600"/>
            </a:b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et influence le Québe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6</a:t>
            </a:r>
            <a:r>
              <a:rPr b="1" lang="fr-CA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AUTOCHTONES ENTRE DISCRIMINATION ET ASSIMIL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e veulent une nation différ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Revendiquent la reconnaissance de leurs dro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ontestent la Loi des Indiens car elle est discriminato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1960 : ont le droit de vote au fédéral. Plusieurs l’ignorent car ils ne se reconnaissent pas dans ce gouvernement de Blan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e trois associations : </a:t>
            </a:r>
            <a:br>
              <a:rPr sz="3200"/>
            </a:b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Fraternité des Indiens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ociété des Métis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uit Tapirisat du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1969 : droit de vote au Qué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Intéressé par le Grand-Nord, le Québec se met à s’occuper des Amérindiens selon ses champs d’a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</a:t>
            </a:r>
            <a:r>
              <a:rPr b="1" lang="fr-C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</a:t>
            </a:r>
            <a:r>
              <a:rPr b="1" lang="fr-CA" sz="40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HANGEMENTS IRRÉVERSIBLES (1966-1970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es idées de changement se sont manifestées avant la Révolution tranquille qui fut l’aboutissement des luttes sociales amorcées depuis le début du siè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067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1 LE RETOUR DE L’UNION NATIONA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aniel Johnson (père) (1966-196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Jean-Jacques Bertrand (1968-197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 1966, l’Union nationale est élue pour mettre fin aux réfor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n’a pas le choix de poursuivre les réfor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Mort de Johnson en 1968 à Manic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l est remplacé par Bertrand jusqu’aux élections de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olitiques des gouvernements </a:t>
            </a:r>
            <a:br>
              <a:rPr sz="3200"/>
            </a:b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Johnson et Bertrand 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Agriculture 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Assurance récol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400" spc="-1" strike="noStrike">
                <a:solidFill>
                  <a:srgbClr val="9ce157"/>
                </a:solidFill>
                <a:latin typeface="Arial"/>
                <a:ea typeface="Times New Roman"/>
              </a:rPr>
              <a:t>Loi des marchés agric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Économie 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Entente avec Terre-Neuve pour les chutes Churchill (augmentation de la production hydroélectriqu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de planification et de développ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8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Éducation 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CÉGE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Université du Québ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9ce157"/>
                </a:solidFill>
                <a:latin typeface="Arial"/>
                <a:ea typeface="Times New Roman"/>
              </a:rPr>
              <a:t>ÉN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211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Cultu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Radio-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Bibliothèque nationale du 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Ministère des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oi 63 sur la langue (Événements de St-Léonard).</a:t>
            </a:r>
            <a:r>
              <a:rPr b="1" lang="fr-FR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0056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399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   </a:t>
            </a: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olitique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bolition du Conseil législa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ssemblée nationale au lieu d’assemblée lé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5764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cc3300"/>
                </a:solidFill>
                <a:latin typeface="Arial"/>
                <a:ea typeface="Times New Roman"/>
              </a:rPr>
              <a:t>International 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franco-québéco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tentes avec la France (télécommunications, éducation et cultur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Rencontres avec des pays franco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30840"/>
            <a:ext cx="35640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2</a:t>
            </a:r>
            <a:r>
              <a:rPr b="1" lang="fr-C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br>
              <a:rPr sz="2400"/>
            </a:br>
            <a:r>
              <a:rPr b="1" lang="fr-CA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RADICALISATION DES MOUVEMENTS SOCIAUX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356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Détérioration des relations État-syndicats 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7, loi spéciale pour le retour au travail des enseign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586320" y="0"/>
            <a:ext cx="555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À partir de 1963, on forme des Comités de citoyens : organisations qui regroupent les populations de quartiers défavorisés des vil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Ils réclament l’amélioration de la qualité de vi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es organisations sont à l’origine des mouvements populaires et communautaires actu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Mouvement étudiant : </a:t>
            </a:r>
            <a:br>
              <a:rPr sz="2800"/>
            </a:b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adopte un rôle similaire à celui des syndic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75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5</a:t>
            </a:r>
            <a:r>
              <a:rPr b="1" lang="fr-CA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 SYNDICALISME ET LA GAUCHE 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ouvel élan du syndicalisme avec l’expansion du secteur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ode du travail facilite la syndicalisation et donne le droit de négociation et de grève dans le secteur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mouvement syndical est très présent et exerce des pressions sur la situation des travaille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00720" y="189000"/>
            <a:ext cx="4643280" cy="15562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 Black"/>
              </a:rPr>
              <a:t>FTQ : secteur privé  </a:t>
            </a:r>
            <a:br>
              <a:rPr sz="3200"/>
            </a:br>
            <a:r>
              <a:rPr b="1" lang="fr-CA" sz="3200" spc="-1" strike="noStrike">
                <a:solidFill>
                  <a:srgbClr val="000044"/>
                </a:solidFill>
                <a:latin typeface="Arial Black"/>
              </a:rPr>
              <a:t>se rapproche du nationalis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44920" cy="587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5877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EQ : se laïc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390920" cy="580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716360" cy="5805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</a:rPr>
              <a:t>CSN : perd son caractère catholi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ouvement politique de gauche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Groupes socialis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propose l’indépe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RIN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fondé en 1960 </a:t>
            </a:r>
            <a:br>
              <a:rPr sz="3200"/>
            </a:b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Pierre Bourgault en est le préside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Parti Pris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1963-1968) rev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FLQ :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emières bombes en 196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8:10:11Z</dcterms:created>
  <dc:creator>user</dc:creator>
  <dc:description/>
  <dc:language>en-US</dc:language>
  <cp:lastModifiedBy>Tech</cp:lastModifiedBy>
  <dcterms:modified xsi:type="dcterms:W3CDTF">2011-05-24T20:02:01Z</dcterms:modified>
  <cp:revision>15</cp:revision>
  <dc:subject/>
  <dc:title>1.4  L’APPAREIL D’ÉTAT :</dc:title>
</cp:coreProperties>
</file>