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93B-2698-4771-9CB4-3504CD42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BAF-D41C-4F28-BE59-A5189EB7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47E-4569-4617-83A2-353200BE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186-AA8A-4822-ADA6-0F276F5E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A35D-F5B0-412D-B402-1B99CB82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AFFE-FFAA-420C-908B-E60D9C9B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1953-6B97-4059-905A-863906EE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9C55-2FD2-41ED-9CEB-AAC7FCF1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064-0C7D-4B30-AAE4-3F3A2484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A5D8-B35B-4BFF-829A-6AF53102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3972-7F5D-4339-A4DA-962AFB0B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DC5-A69D-4DAD-BCC8-E83D55D6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3FB-59C8-4434-9EF4-733D4175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8147-2713-4E5A-A946-7803398A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1667-FED2-485C-BF52-B8E23D79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1C6A-B13C-45CD-8AA9-54B9A605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AC45-3B63-4D2E-8255-F4932587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78C-E446-4345-B142-2D5CAE9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3DC-F483-44DA-89D0-AACFC6C1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1A7-7AB6-4D1C-88E3-90F750E2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9FF-617C-4A56-BEF7-B2D3A241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E1A-8C7F-49CB-9C9A-7616C99D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AD5-97CB-4B9A-9D1B-C8C9114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B94-6426-41E6-B897-32DCE2F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8FF3-7DC7-4B8E-AB8C-AD94918931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AD2B-608F-4D10-87C7-8F7C4AC0B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3  CHANGEMENTS DANS LE PAYSAGE POLITIQU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Division au sein du parti Libéral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es dissidents vont rejoindre d’autres mouvements souveraini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réation du MSA (mouvement souveraineté-association) par René Léves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Union du MSA et du RIN pour former le Parti québécois en 196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Le cinéma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Souffre de l’impact de la télév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etites salles cèdent la place à des complexes ayant plusieurs sa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inéma français mais surtout améric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cinéma d’ici se développe (documentaires à contenu social et politique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36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resse et édition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On assiste à un rec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Les succès sont le Journal de Montréal et le Journal de Québ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Les livres de poche se vend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Musique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’est à ce niveau qu’on voit le plus de chang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Essor de la musique populaire avec le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Surtout avec les chansonniers québécois que les jeunes se retrouv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543480" y="0"/>
            <a:ext cx="560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36702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Au Canada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3, Diefenbaker (conservateur) prône le «One Canada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4192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Lester B. Pearson (libéral)</a:t>
            </a:r>
            <a:r>
              <a:rPr b="1" lang="fr-CA" sz="2800" spc="-1" strike="noStrike">
                <a:solidFill>
                  <a:srgbClr val="f98d43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crée la Commission Laurendeau-Dunton qui parle de l’égalité entre les deux peuples fondate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00520" y="0"/>
            <a:ext cx="444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252720" y="620280"/>
            <a:ext cx="4267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8, Pierre Elliott-Trudeau devient Premier ministre au fédé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Pour lui, «le Québec est une province comme les autres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Tension entre Québec et Ottawa durant cette péri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048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fr-CA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29120" y="0"/>
            <a:ext cx="51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4</a:t>
            </a:r>
            <a:r>
              <a:rPr b="1" lang="fr-C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 DÉBAT SUR LA LANGU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L’intégration des immigrants devient un enjeu majeur avec la baisse de natalité, sinon les francophones seront en minorit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8, éclate la crise de St-Léonard car les anglophones et les immigrants veulent le choix de la lan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Le gouvernement Bertrand adopte la Loi 63  qui leur donne ce cho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-22320"/>
            <a:ext cx="7812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Cela sera un point tournant dans le nationalisme qui devient </a:t>
            </a:r>
            <a:r>
              <a:rPr b="1" lang="fr-CA" sz="32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</a:rPr>
              <a:t>québécois</a:t>
            </a: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9480"/>
            <a:ext cx="39956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En 1969, le gouvernement Trudeau vote la Loi sur les langues officielles à Ottaw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2.5</a:t>
            </a:r>
            <a:r>
              <a:rPr b="1" lang="fr-C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CULTURE POPULAIRE QUÉBÉCOIS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24000" y="1341360"/>
            <a:ext cx="9468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On assiste à une véritable révolution culture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La télévision 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est plus compétitive avec les stations privées TVA et CF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On en trouve dans presque tous les fo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Téléromans, sports, variétés, film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Informations et événements cultur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98d43"/>
                </a:solidFill>
                <a:latin typeface="Arial"/>
                <a:ea typeface="Times New Roman"/>
              </a:rPr>
              <a:t>La couleur en 196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17640" y="21420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0:29:20Z</dcterms:created>
  <dc:creator>user</dc:creator>
  <dc:description/>
  <dc:language>en-US</dc:language>
  <cp:lastModifiedBy>Tech</cp:lastModifiedBy>
  <dcterms:modified xsi:type="dcterms:W3CDTF">2011-05-24T20:22:30Z</dcterms:modified>
  <cp:revision>8</cp:revision>
  <dc:subject/>
  <dc:title>2.3  CHANGEMENTS DANS LE PAYSAGE POLITIQUE</dc:title>
</cp:coreProperties>
</file>