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E84-3C0D-40D5-A740-5ACEB139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F74-ECD4-4B45-A2A9-CAAFB91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DF2-A09E-4EF3-A018-C5290BE9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958-C2FE-410D-896A-F715F91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B04E-116E-4550-BD96-778D7137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9AD-56EA-4504-AA66-6E0A598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18FC-5DE4-45D3-A714-1ED4B8F7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4C9-64E5-4ADD-83F3-38A5BC8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E4FA-2142-4992-81B3-CBE6370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8C1B-BEE4-4095-8FBA-6C902ED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E37-32CF-4CAD-AE12-7E84169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50C-6D82-4CBA-8AE6-ADF79EA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8E5-9D10-4B6C-AC07-5F0984A8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86E-03DB-4613-B6E6-8A0DDA4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8568-7450-4EE5-9BF6-F9D1EDB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0FC-884F-4971-9C43-1E2B8FF7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CB6B-F483-4AFA-BC36-6E293B1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47A-718C-423F-95C6-42C23177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F3E-88A3-44B7-A64C-3C741931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720-E59E-445D-9CEB-769637C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1C7-05CF-4CDA-A140-0592152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A36-30B9-4027-932D-A9D04BA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DAA-8490-4226-8AB6-A29E8B5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F17-EBAC-449A-A298-8309E42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0EBC-0BE8-4F1E-9110-11C69A12D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9CC-D752-4BD1-B7C8-26BA4ADF91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3  CHANGEMENTS DANS LE PAYSAGE POLITIQU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ivision au sein du parti Libéral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dissidents vont rejoindre d’autres mouvements souveraini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SA (mouvement souveraineté-association) par René Léves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nion du MSA et du RIN pour former le Parti québécois en 19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Le cinéma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ouffre de l’impact de la télé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etites salles cèdent la place à des complexes ayant plusieurs sa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inéma français mais surtout améric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inéma d’ici se développe (documentaires à contenu social et politique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36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resse et édition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assiste à un rec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s succès sont le Journal de Montréal et le Journal de 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s livres de poche se ven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Musique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’est à ce niveau qu’on voit le plus de ch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Essor de la musique populaire avec le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urtout avec les chansonniers québécois que les jeunes se retrou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543480" y="0"/>
            <a:ext cx="560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3670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Au Canada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3, Diefenbaker (conservateur) prône le «One Canada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Lester B. Pearson (libéral)</a:t>
            </a:r>
            <a:r>
              <a:rPr b="1" lang="fr-CA" sz="2800" spc="-1" strike="noStrike">
                <a:solidFill>
                  <a:srgbClr val="f98d43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rée la Commission Laurendeau-Dunton qui parle de l’égalité entre les deux peuples fondate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252720" y="620280"/>
            <a:ext cx="4267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8, Pierre Elliott-Trudeau devient Premier ministre au fédé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Pour lui, «le Québec est une province comme les autres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Tension entre Québec et Ottawa durant cette péri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48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fr-C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29120" y="0"/>
            <a:ext cx="51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4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 DÉBAT SUR LA LANGU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’intégration des immigrants devient un enjeu majeur avec la baisse de natalité, sinon les francophones seront en minorit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8, éclate la crise de St-Léonard car les anglophones et les immigrants veulent le choix de la lan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e gouvernement Bertrand adopte la Loi 63  qui leur donne ce cho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-22320"/>
            <a:ext cx="7812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Cela sera un point tournant dans le nationalisme qui devient </a:t>
            </a:r>
            <a:r>
              <a:rPr b="1" lang="fr-CA" sz="32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</a:rPr>
              <a:t>québécois</a:t>
            </a: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3995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9, le gouvernement Trudeau vote la Loi sur les langues officielles à Ottaw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5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CULTURE POPULAIRE QUÉBÉCOIS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24000" y="1341360"/>
            <a:ext cx="9468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On assiste à une véritable révolution culture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La télévision 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est plus compétitive avec les stations privées TVA et CF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On en trouve dans presque tous les f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Téléromans, sports, variétés, fil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Informations et événements cultur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La couleur en 196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17640" y="21420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0:29:20Z</dcterms:created>
  <dc:creator>user</dc:creator>
  <dc:description/>
  <dc:language>en-US</dc:language>
  <cp:lastModifiedBy>Tech</cp:lastModifiedBy>
  <dcterms:modified xsi:type="dcterms:W3CDTF">2011-05-24T20:22:30Z</dcterms:modified>
  <cp:revision>8</cp:revision>
  <dc:subject/>
  <dc:title>2.3  CHANGEMENTS DANS LE PAYSAGE POLITIQUE</dc:title>
</cp:coreProperties>
</file>