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F600-05B1-4B81-970F-4BEF1A899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44B6-591D-41DF-AE51-A0CB7137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50B5-D927-470C-B7DA-7E92162FD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292E-57AF-4680-8262-81F19AFD0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8AAB-5E9D-4B1E-BBC4-6902D3F16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1C94-A198-495F-B015-EBA73C4E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94B2-93CA-4EB0-BB0F-20711A63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A0D7-8B6E-4F06-91A5-09C9E5FA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3E04-3909-4916-87A9-A5166F78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E715-505D-4207-BBA2-880AC68E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7FF0-E1F0-4C71-B9E7-A1ECFD4C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FBD9-45F3-4A1B-9743-E5F9837E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81B7-6DE9-4F69-8592-4B924960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1BEC-C489-4225-843F-FA27DB1C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9E6E-E7AF-4C4D-B2C2-ED26C566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9977-56CC-407C-92BE-7D1801A93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036B-9579-4C8D-94B0-9B87F1FA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2A44-C116-4AAC-9D3B-0B75D2C2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0467-0293-44EF-90E5-4C5E316F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0608-D53F-4C3D-8A14-48F1CF53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8F96-B244-404B-AF4F-189509EE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BEDF-B3B5-41C6-8E12-7066FA55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EF69-0700-41AC-8DEA-E9620B59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EC6B-B9ED-4978-88B7-3C2A0D65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831A-9637-4AC0-9390-FAF2D3F9A21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5E06-AFF3-46D2-97D1-C222BECB3E6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CHAPITRE 8</a:t>
            </a:r>
            <a:br>
              <a:rPr sz="3600"/>
            </a:b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48320" y="297180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6666"/>
                </a:solidFill>
                <a:latin typeface="Arial"/>
                <a:ea typeface="Times New Roman"/>
              </a:rPr>
              <a:t>UNE SOCIÉTÉ DIVISÉ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-360" y="764640"/>
            <a:ext cx="4941720" cy="609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Les Felquistes se sont toujours inspirés du mouvement des Patriotes de 1837-1838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Ils ont adopté des noms de chefs rebelles pour leurs cellul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et ont montré un Patriote sur leurs communiqué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59280" y="195120"/>
            <a:ext cx="428472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55640" y="2362320"/>
            <a:ext cx="815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En 1970, en enlevant un diplomate britannique, James Richard Cross puis le ministre du Travail québécois, Pierre Laport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fr-CA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ils commettent l’action la plus spectaculaire de leur histoire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Robert Bourassa demande l’aide du gouvernement fédéral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P.E. Trudeau proclame </a:t>
            </a:r>
            <a:br>
              <a:rPr sz="2800"/>
            </a:br>
            <a:r>
              <a:rPr b="1" lang="fr-CA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la loi des mesures de guerr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L’armée entre au Québec 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suspension des libertés civiles </a:t>
            </a:r>
            <a:br>
              <a:rPr sz="2800"/>
            </a:br>
            <a:r>
              <a:rPr b="1" lang="fr-CA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(pas droit de se regrouper, pas besoin de mandat pour arrêter quelqu’un, etc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450 emprisonnements, plus de 2,000 perquisi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186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Le 17 octobre, Pierre Laporte est retrouvé mort dans le coffre d’une voiture à St-Huber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189080"/>
            <a:ext cx="914400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229440" y="609300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3366"/>
                </a:solidFill>
                <a:latin typeface="Arial"/>
              </a:rPr>
              <a:t>Pierre Laport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22240" y="0"/>
            <a:ext cx="5200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99640" y="476280"/>
            <a:ext cx="80010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Suite à cela 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Les Felquistes :  Certains seront emprisonnés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D’autres seront exilés à Cuba, à leur demande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Impact sur notre histoire 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Le F.L.Q. disparaît et laisse la place à des mouvements politiques radicaux mais non-viol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Le P.Q. devient la seule voie d’accès à l’indépendan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Division entre les indépendantistes et les socialistes (opposés à l’indépendance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1.3</a:t>
            </a:r>
            <a:r>
              <a:rPr b="1" lang="fr-CA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 </a:t>
            </a:r>
            <a:r>
              <a:rPr b="1" lang="fr-CA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LA BAIE JAMES ET LES TERRITOIRES AUTOCHT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fr-CA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 </a:t>
            </a: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La question des territoires est au centre des discussions entre les gouvernements et les Autochton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-</a:t>
            </a:r>
            <a:r>
              <a:rPr b="1" lang="fr-CA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     </a:t>
            </a: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On veut exploiter les ressources naturel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-</a:t>
            </a:r>
            <a:r>
              <a:rPr b="1" lang="fr-CA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     </a:t>
            </a: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Les Amérindiens veulent qu’on reconnaisse leurs droi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6666"/>
                </a:solidFill>
                <a:latin typeface="Arial"/>
                <a:ea typeface="Times New Roman"/>
              </a:rPr>
              <a:t>BOURASSA 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406728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Jeune économiste de 36 ans, pur produit de la Révolution tranquill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Reconnu comme étant le père de la Baie Jam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Il poursuivra certai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	</a:t>
            </a:r>
            <a:r>
              <a:rPr b="1" lang="fr-CA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réformes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071960" y="0"/>
            <a:ext cx="507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3520" y="23619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Les tribunaux décident : </a:t>
            </a:r>
            <a:br>
              <a:rPr sz="2800"/>
            </a:b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droits des Autochtones sur les territoires qui ne font pas l’objet de traité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On doit donc régler les conflits territoriaux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On ira en cour pour la Baie James car le gouvernement n’a pas consulté les Autochton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Convention de la Baie James et du Nord québécois en 1975 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Découpage en trois zon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Constitution d’administrations       </a:t>
            </a: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locales et régionales </a:t>
            </a:r>
            <a:br>
              <a:rPr sz="3200"/>
            </a:b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pour les services public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11004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fr-CA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</a:t>
            </a:r>
            <a:endParaRPr b="0" lang="en-US" sz="7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En 1976, avec le P.Q., on créera le SAGMAI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(secrétariat des activités gouvernementales en milieu amérindien et inuit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1.4</a:t>
            </a:r>
            <a:r>
              <a:rPr b="1" lang="fr-CA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 </a:t>
            </a:r>
            <a:r>
              <a:rPr b="1" lang="fr-CA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LES SYNDICATS ET LES MOUVEMENTS SOCIAUX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17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Les syndica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Revendications de plus en plus radicales par 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 </a:t>
            </a: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les syndicats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 </a:t>
            </a: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les étudi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 </a:t>
            </a: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les groupes populaires</a:t>
            </a: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 </a:t>
            </a: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les mouvements féminis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99640" y="907560"/>
            <a:ext cx="8001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Point culminant : la grève du front commun en 1972 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 </a:t>
            </a: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200,000 travailleurs en grè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 </a:t>
            </a: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loi pour le retour au travai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 </a:t>
            </a: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emprisonnement de trois chefs syndicaux pour avoir incité à défier la lo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54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fr-CA" sz="3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Mouvements féminis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Au cours de ces 6 années, il aura à faire face à une insatisfaction grandissan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Sous son règne, c’est la fin des grandes réformes. On mettra l’accent sur l’économie et la diminution du chômag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360" y="2362320"/>
            <a:ext cx="844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Première femme candidate aux élections en 1962 : Claire Kirkland-Casgrai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Années 70 : on reconnaît l’importance de la condition fémini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Émergence d’un féminisme radical portant sur la sexualité, la reproduction, les modèles culturels sexistes…</a:t>
            </a:r>
            <a:r>
              <a:rPr b="1" lang="fr-FR" sz="2800" spc="-1" strike="noStrike">
                <a:solidFill>
                  <a:srgbClr val="478d4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68360" y="-11160"/>
            <a:ext cx="8028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94920" y="2362320"/>
            <a:ext cx="85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1. 1968 : le divorce devient lég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2. 1969 : Loi fédérale qui lève l’interdiction de la publicité sur la contraception et les services d’avort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 </a:t>
            </a: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Légalisation de l’avortement en milie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     </a:t>
            </a: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hospitalier si la santé de la femme est 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     </a:t>
            </a:r>
            <a:r>
              <a:rPr b="1" lang="fr-CA" sz="2800" spc="-1" strike="noStrike">
                <a:solidFill>
                  <a:srgbClr val="478d47"/>
                </a:solidFill>
                <a:latin typeface="Arial"/>
                <a:ea typeface="Times New Roman"/>
              </a:rPr>
              <a:t>dang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1.1</a:t>
            </a:r>
            <a:r>
              <a:rPr b="1" lang="fr-CA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 </a:t>
            </a:r>
            <a:r>
              <a:rPr b="1" lang="fr-CA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LES POLITIQUES DU GOUVERNEMENT BOURASS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99640" y="2349360"/>
            <a:ext cx="80010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1970 : Élection (la première où il y a le P.Q.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Les Libéraux promettent 100,000 emplois car il y a 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ralentissement économiq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hausse du chômage (10%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 algn="just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Les Libéraux seront élus. Bourassa devient Premier minist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4360" y="2362320"/>
            <a:ext cx="8231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   </a:t>
            </a: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A)</a:t>
            </a:r>
            <a:r>
              <a:rPr b="1" lang="fr-C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    </a:t>
            </a: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L’EMPLOI 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Comment Bourassa créera-t-il c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100,000 emplois 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en attirant les investisseurs étrang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en construisant les barrages de la Baie Jam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B)</a:t>
            </a:r>
            <a:r>
              <a:rPr b="1" lang="fr-C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    </a:t>
            </a: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RÉFORMES SOCIAL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Création de l’assurance-maladi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Création des CLSC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Loi sur l’environnemen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31960" y="2562120"/>
            <a:ext cx="81723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3600"/>
            </a:br>
            <a:r>
              <a:rPr b="1" lang="fr-CA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1.2</a:t>
            </a:r>
            <a:r>
              <a:rPr b="1" lang="fr-CA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 </a:t>
            </a:r>
            <a:r>
              <a:rPr b="1" lang="fr-CA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LA CRISE D’OCTOBRE 197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L’épisode le plus violent de l’histoire politique du Québec depuis la Révolte des Patriotes en 1837-1838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Le F.L.Q. (Front de libération du Québec) est un groupe indépendantiste et socialiste qui prône l’accession à l’indépendance du Québec par la violen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Il s’est fait connaître en faisant sauter des bombes (Caserne militaire, boîte aux lettres, manufacture de chaussures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Il soutient aussi les luttes ouvrièr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2:16:23Z</dcterms:created>
  <dc:creator>user</dc:creator>
  <dc:description/>
  <dc:language>en-US</dc:language>
  <cp:lastModifiedBy>Tech</cp:lastModifiedBy>
  <dcterms:modified xsi:type="dcterms:W3CDTF">2011-05-24T20:53:03Z</dcterms:modified>
  <cp:revision>14</cp:revision>
  <dc:subject/>
  <dc:title>CHAPITRE 8 </dc:title>
</cp:coreProperties>
</file>