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18D-C374-4EB7-9120-6FA6C1CF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360-3AEC-421F-B411-B2C827F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EE1-A914-43F1-8ABB-A4DF2D0B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31E-453B-458E-9192-8C451A66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5A2-A688-430D-B0F4-14886D01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01A-1FE2-4531-9134-25F86E07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E5C1-1E5F-4F7C-BD0B-9D5D039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A044-6392-419E-A3DD-C39BC6DC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E560-F736-43F1-9D24-4276A19E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B54-A555-46E7-86C9-AEE2230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948-0005-410C-8225-B9A45A2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31F-5B56-4EA9-A233-65CE3BAB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722-AFDD-4539-88C8-A104A01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B53-C40A-4EF1-AACB-963B7B5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55AE-9AD5-4A22-A38B-710EE7E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15F6-A592-465E-AF64-D8641F7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5E53-F004-4496-A656-528F5C8C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2E6-7213-4B4D-BC5D-1678F44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D47-E300-40B9-AC68-A671726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28C-1AF9-4D75-AE9A-E6047D75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681-4E93-4CF7-B39E-05843A9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584-F2A5-41DB-B2AA-3FF458A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087-294F-41AB-BAD8-4934238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F8B-CFD0-4FCE-9C29-6C8A6DD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853-E6EF-40D3-A313-0A92B8A67E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287-5C65-4B7E-903B-519E719743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CHAPITRE 8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48320" y="297180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6666"/>
                </a:solidFill>
                <a:latin typeface="Arial"/>
                <a:ea typeface="Times New Roman"/>
              </a:rPr>
              <a:t>UNE SOCIÉTÉ DIVISÉ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94172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es Felquistes se sont toujours inspirés du mouvement des Patriotes de 1837-1838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s ont adopté des noms de chefs rebelles pour leurs cellu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t ont montré un Patriote sur leurs communiqué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195120"/>
            <a:ext cx="4284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23623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En 1970, en enlevant un diplomate britannique, James Richard Cross puis le ministre du Travail québécois, Pierre Lapor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ils commettent l’action la plus spectaculaire de leur histoir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obert Bourassa demande l’aide du gouvernement fédér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.E. Trudeau proclame </a:t>
            </a:r>
            <a:br>
              <a:rPr sz="2800"/>
            </a:b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a loi des mesures de guer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’armée entre au Québec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uspension des libertés civiles </a:t>
            </a:r>
            <a:br>
              <a:rPr sz="2800"/>
            </a:b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(pas droit de se regrouper, pas besoin de mandat pour arrêter quelqu’un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450 emprisonnements, plus de 2,000 perqui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e 17 octobre, Pierre Laporte est retrouvé mort dans le coffre d’une voiture à St-Hube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229440" y="6093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Pierre La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224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476280"/>
            <a:ext cx="8001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Suite à cela 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Felquistes :  Certains seront emprisonné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D’autres seront exilés à Cuba, à leur demand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Impact sur notre histoire 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F.L.Q. disparaît et laisse la place à des mouvements politiques radicaux mais non-viol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P.Q. devient la seule voie d’accès à l’indépend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Division entre les indépendantistes et les socialistes (opposés à l’indépendanc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3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BAIE JAMES ET LES TERRITOIRES AUTOCHT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a question des territoires est au centre des discussions entre les gouvernements et les Autoch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veut exploiter les ressources naturel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Amérindiens veulent qu’on reconnaisse leurs dro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BOURASSA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40672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Jeune économiste de 36 ans, pur produit de la Révolution tranquil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Reconnu comme étant le père de la Baie Jam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Il poursuivra certa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réforme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tribunaux décident : </a:t>
            </a:r>
            <a:br>
              <a:rPr sz="2800"/>
            </a:b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droits des Autochtones sur les territoires qui ne font pas l’objet de traité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doit donc régler les conflits territoriau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ira en cour pour la Baie James car le gouvernement n’a pas consulté les Autoch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nvention de la Baie James et du Nord québécois en 1975 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Découpage en trois z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nstitution d’administrations    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cales et régionales </a:t>
            </a:r>
            <a:br>
              <a:rPr sz="3200"/>
            </a:b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pour les services public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10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fr-C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1976, avec le P.Q., on créera le SAGMAI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(secrétariat des activités gouvernementales en milieu amérindien et inuit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SYNDICATS ET LES MOUVEMENTS SOCIAU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Les syndica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Revendications de plus en plus radicales par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syndicats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étudi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groupes populaires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mouvements féminis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Point culminant : la grève du front commun en 1972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200,000 travailleurs en grè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oi pour le retour au trav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emprisonnement de trois chefs syndicaux pour avoir incité à défier la lo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ouvements féminis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Au cours de ces 6 années, il aura à faire face à une insatisfaction grandissa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Sous son règne, c’est la fin des grandes réformes. On mettra l’accent sur l’économie et la diminution du chôm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Première femme candidate aux élections en 1962 : Claire Kirkland-Casgra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Années 70 : on reconnaît l’importance de la condition fémin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Émergence d’un féminisme radical portant sur la sexualité, la reproduction, les modèles culturels sexistes…</a:t>
            </a:r>
            <a:r>
              <a:rPr b="1" lang="fr-FR" sz="2800" spc="-1" strike="noStrike">
                <a:solidFill>
                  <a:srgbClr val="478d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-11160"/>
            <a:ext cx="8028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4920" y="2362320"/>
            <a:ext cx="85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1. 1968 : le divorce devient lég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2. 1969 : Loi fédérale qui lève l’interdiction de la publicité sur la contraception et les services d’avor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égalisation de l’avortement en milie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   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hospitalier si la santé de la femme est 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   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dang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POLITIQUES DU GOUVERNEMENT BOURA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2349360"/>
            <a:ext cx="8001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1970 : Élection (la première où il y a le P.Q.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Libéraux promettent 100,000 emplois car il y a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ralentissement économi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hausse du chômage (10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Libéraux seront élus. Bourassa devient Premier minis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)</a:t>
            </a:r>
            <a:r>
              <a:rPr b="1" lang="fr-C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’EMPLOI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mment Bourassa créera-t-il 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100,000 emplois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attirant les investisseurs étrang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construisant les barrages de la Baie Ja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B)</a:t>
            </a:r>
            <a:r>
              <a:rPr b="1" lang="fr-C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RÉFORMES SOCIA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réation de l’assurance-maladi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réation des CLS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i sur l’environn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1960" y="2562120"/>
            <a:ext cx="8172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CRISE D’OCTOBRE 197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’épisode le plus violent de l’histoire politique du Québec depuis la Révolte des Patriotes en 1837-183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F.L.Q. (Front de libération du Québec) est un groupe indépendantiste et socialiste qui prône l’accession à l’indépendance du Québec par la viol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s’est fait connaître en faisant sauter des bombes (Caserne militaire, boîte aux lettres, manufacture de chaussures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soutient aussi les luttes ouvriè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2:16:23Z</dcterms:created>
  <dc:creator>user</dc:creator>
  <dc:description/>
  <dc:language>en-US</dc:language>
  <cp:lastModifiedBy>Tech</cp:lastModifiedBy>
  <dcterms:modified xsi:type="dcterms:W3CDTF">2011-05-24T20:53:03Z</dcterms:modified>
  <cp:revision>14</cp:revision>
  <dc:subject/>
  <dc:title>CHAPITRE 8 </dc:title>
</cp:coreProperties>
</file>