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D42-E0EE-4F8F-8D1C-EB078819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31B-7E13-4A63-AC9E-F496CC43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3D6-3253-478D-AD4C-EAE7872E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C15-D2A4-4DB4-B646-990E022E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DCC1-3A36-4EFF-A45A-FC98BD74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8733-F7B3-4249-8FFC-AAA76F95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3802-933B-4FAF-81A9-5F26EC9F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08FB-0144-4E39-9286-76968D64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778D-921B-4FDD-BBCE-07DA9F9D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AEBA-717E-4C61-9EA3-24C5CE3E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CCC8-3AA2-4D8E-AE79-DBF221C4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142-D9BA-43BA-AD88-957549B2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FD43-292D-4298-A2CF-60ECB945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608D-A95B-41B1-B40D-2F3040A8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159D-24F0-4362-A3EE-C451BE15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4809-D499-4F44-8B5E-411256C6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7FE0-7D56-452A-9584-89BBC3B5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36F-D9B3-4B42-888D-57AFA1CF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98F-9DA7-42B1-984D-5D82568C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991-9038-4366-BBFE-0E2CA031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07C-23F2-4C96-9DAA-2A1160A1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1AE-4550-40C8-A8E6-24EBEA3F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3C9-2B92-4611-B926-CF0B8759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7BA-1955-48DF-B0AE-A19B9972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BC20-4757-458F-A4EE-33118BD242A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57C4-680A-49AE-8764-503E5AA6B50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9680" y="691920"/>
            <a:ext cx="900432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1973 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Création du Conseil du statut de la femme au Québe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Création du Conseil consultatif canadien de  la situation de la femme (fédéral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Ouverture de cliniques d’avortement dans les CLSC en plus des hôpitaux.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Premier centre d’aide pour les victimes de vi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26920" y="2361960"/>
            <a:ext cx="8088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Bourassa perdra ses élections en 1976 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Les anglophones ont voté pour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l’Union nationale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Le P.Q sera élu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4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425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3366"/>
                </a:solidFill>
                <a:latin typeface="Arial"/>
                <a:ea typeface="Times New Roman"/>
              </a:rPr>
              <a:t>2.</a:t>
            </a:r>
            <a:r>
              <a:rPr b="1" lang="fr-CA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r>
              <a:rPr b="1" lang="fr-CA" sz="4000" spc="-1" strike="noStrike">
                <a:solidFill>
                  <a:srgbClr val="003366"/>
                </a:solidFill>
                <a:latin typeface="Arial"/>
                <a:ea typeface="Times New Roman"/>
              </a:rPr>
              <a:t>LE PREMIER GOUVERNEMENT SOUVERAINISTE (1976-1980)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41655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Va apporter un second souffle à la Révolution tranquille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2.1</a:t>
            </a:r>
            <a:r>
              <a:rPr b="1" lang="fr-CA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ÉLECTION DU P.Q. LE 15 NOVEMBRE 197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Le mouvement indépendantiste devient une force incroy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Pour plusieurs, c’est un cho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2.2</a:t>
            </a:r>
            <a:r>
              <a:rPr b="1" lang="fr-CA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LES RÉFORMES DU PREMIER GOUVERNEMENT LÉVESQ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90000"/>
                </a:solidFill>
                <a:latin typeface="Arial"/>
                <a:ea typeface="Times New Roman"/>
              </a:rPr>
              <a:t>Loi sur le financement des partis politiques 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Les contributions des compagnies sont interdit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Les contributions des particuliers sont limité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On réglemente l’attribution des contrats gouvernementau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fr-CA" sz="3200" spc="-1" strike="noStrike">
                <a:solidFill>
                  <a:srgbClr val="990000"/>
                </a:solidFill>
                <a:latin typeface="Arial"/>
                <a:ea typeface="Times New Roman"/>
              </a:rPr>
              <a:t>Loi anti-briseurs de grève :</a:t>
            </a:r>
            <a:r>
              <a:rPr b="1" lang="fr-C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interdit aux patrons d’embaucher du personnel de remplacement pendant une grè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90000"/>
                </a:solidFill>
                <a:latin typeface="Arial"/>
                <a:ea typeface="Times New Roman"/>
              </a:rPr>
              <a:t>Plusieurs réalisations 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ssurance-automobi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Gratuité des médicaments pour les aîné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Congé maternit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Droits des handicapé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Protection du territoire agrico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Protection de l’environn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- Société de développement des industries culturel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0" y="1557360"/>
            <a:ext cx="812340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Loi 101 : qui fera réagir fortement les anglophones. On contestera en cou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On subventionne plusieurs groupes populaires déjà entrepris dans les années 70 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La communauté se prend en charge et   devient partenaire avec le    gouvern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   </a:t>
            </a: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1980 : Référendum (20ma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2.3</a:t>
            </a:r>
            <a:r>
              <a:rPr b="1" lang="fr-CA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 LE RÉFÉRENDUM DE 198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2361960"/>
            <a:ext cx="81597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u fédéral: Trudeau revient avec deux buts 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combattre le nationalisme québéco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rapatrier la Constit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776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236232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Référendum du 20 mai 198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La campagne divise la population en deu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OUI : avec Lévesqu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NON : avec Trudeau et Ry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 14 mai, Trudeau promet que si le non l’emporte, il renouvellera la Constitu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évesque proposait de négocier d’égal à égal avec le Canada. Le Québec deviendrait souverain mais aurait une association économique avec le Canad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0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4360" y="-28440"/>
            <a:ext cx="770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38836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80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 NON l’emporte avec 60% des vo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Espoir pour un nouveau Canada chez les tenants du N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Grande déception chez les tenants du OUI qui mettront du temps à s’en remett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1280" y="2565360"/>
            <a:ext cx="85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1975 : Année de la femme par l’O.N.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1977 : Le gouvernement commence à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       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subventionner les maisons d’hébergeme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           </a:t>
            </a: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pour les femmes victimes de viole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A" sz="3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Mouvements étudiants</a:t>
            </a:r>
            <a:r>
              <a:rPr b="1" lang="fr-CA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2362320"/>
            <a:ext cx="815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Octobre 1968 : première grève étudia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Ensuite UGEQ se dissou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On forme des petites associations par faculté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1974 : On refait le mouvement étudiant en pour :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                 </a:t>
            </a: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- l’aide financiè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- grève génér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1975 : Création de L’ANEEQ en jusqu’à 1980 (fin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Les groupes populai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534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Dans les années 60, il y a des comités d’action politique (CAP) qui vont former un parti politique sur la scène montréalaise, appelé FRAP (1970-1974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Ce parti sera battu entre autre à cause de la crise d’octob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1.5</a:t>
            </a:r>
            <a:r>
              <a:rPr b="1" lang="fr-CA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LA LOI 22 ET LA POURSUITE DU DÉBAT LINGUISTIQ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La langue est un sujet explosif au Québe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Les francophones veulent l’unilinguisme frança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Les anglophones veulent  la liberté de  choi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830412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En 1974, le gouvernement Bourassa adopte la Loi 22 qui dit que le français est la seule langue officielle au Québe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Cependant, les enfants ayant une connaissance suffisante de l’anglais pourront aller vers des écoles anglaise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55280" y="1196640"/>
            <a:ext cx="8388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a loi indispose tout le monde 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s francophones la trouvent trop tim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s anglophones trouvent qu’elle brime leurs droi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s immigrants sont divisés en deux catégories : ceux qui peuvent se débrouiller en anglais et les aut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9:38:05Z</dcterms:created>
  <dc:creator>user</dc:creator>
  <dc:description/>
  <dc:language>en-US</dc:language>
  <cp:lastModifiedBy>Tech</cp:lastModifiedBy>
  <dcterms:modified xsi:type="dcterms:W3CDTF">2011-05-24T21:30:15Z</dcterms:modified>
  <cp:revision>16</cp:revision>
  <dc:subject/>
  <dc:title>Présentation PowerPoint</dc:title>
</cp:coreProperties>
</file>