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7CFE-9E9E-41F4-97C7-2E252734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4AAA-9692-4FB0-B159-7D5503A6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39BB-A6FB-4904-ABEE-951A0563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9B5-E193-4115-BD4A-B4B643EA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1554-9FAB-4CD4-912F-ECDA8918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DB8C-3755-4A5D-B282-0F15064F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8155-84BC-4C9E-82C6-D670F535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8ADB-BF04-4D20-A548-60DFE17D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F6B9-AD97-43EC-8444-F7D5CDD5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140E-584B-43D1-8400-E8BCFAEC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97A1-C641-4C4E-ADAD-6BB06F17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06EC-31E7-4EBE-AA48-8933FB8E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C39D-889F-4612-905B-D1824EBD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4819-A021-444E-8DCB-224610D5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2A93-4DDE-439F-9FE2-212807D2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0E57-3CF8-4BAA-9AFB-17A588BE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EDA3-5E24-4079-8DBD-B69AC1CF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92BA-3409-4EC2-B058-8EE7DFA6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999-FDAC-4379-8630-A57D4ED9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DF5D-F811-4483-82E4-5DA84C11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C3C8-C829-4E8C-8BB6-0CF0FB49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2A43-9B5E-47FE-8C05-52D113C0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8E7D-6997-4D3B-A1BA-7F92B39B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7795-2F58-47EC-A586-93D732EA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6FB9-205B-4B8E-B2CB-68007E5B71B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D0CF-F42E-470C-BB5D-F4391C9366E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9680" y="691920"/>
            <a:ext cx="9004320" cy="61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1973 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Création du Conseil du statut de la femme au Québe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Création du Conseil consultatif canadien de  la situation de la femme (fédéral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Ouverture de cliniques d’avortement dans les CLSC en plus des hôpitaux.</a:t>
            </a: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Premier centre d’aide pour les victimes de vi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26920" y="2361960"/>
            <a:ext cx="80884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Bourassa perdra ses élections en 1976 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Les anglophones ont voté pour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   </a:t>
            </a: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l’Union nationale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Le P.Q sera élu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42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425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3366"/>
                </a:solidFill>
                <a:latin typeface="Arial"/>
                <a:ea typeface="Times New Roman"/>
              </a:rPr>
              <a:t>2.</a:t>
            </a:r>
            <a:r>
              <a:rPr b="1" lang="fr-CA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r>
              <a:rPr b="1" lang="fr-CA" sz="4000" spc="-1" strike="noStrike">
                <a:solidFill>
                  <a:srgbClr val="003366"/>
                </a:solidFill>
                <a:latin typeface="Arial"/>
                <a:ea typeface="Times New Roman"/>
              </a:rPr>
              <a:t>LE PREMIER GOUVERNEMENT SOUVERAINISTE (1976-1980)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673160" y="2927520"/>
            <a:ext cx="41655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Va apporter un second souffle à la Révolution tranquille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2.1</a:t>
            </a:r>
            <a:r>
              <a:rPr b="1" lang="fr-CA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ÉLECTION DU P.Q. LE 15 NOVEMBRE 1976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Le mouvement indépendantiste devient une force incroy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Pour plusieurs, c’est un cho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2.2</a:t>
            </a:r>
            <a:r>
              <a:rPr b="1" lang="fr-CA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LES RÉFORMES DU PREMIER GOUVERNEMENT LÉVESQ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90000"/>
                </a:solidFill>
                <a:latin typeface="Arial"/>
                <a:ea typeface="Times New Roman"/>
              </a:rPr>
              <a:t>Loi sur le financement des partis politiques 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Les contributions des compagnies sont interdit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Les contributions des particuliers sont limité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On réglemente l’attribution des contrats gouvernementau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fr-CA" sz="3200" spc="-1" strike="noStrike">
                <a:solidFill>
                  <a:srgbClr val="990000"/>
                </a:solidFill>
                <a:latin typeface="Arial"/>
                <a:ea typeface="Times New Roman"/>
              </a:rPr>
              <a:t>Loi anti-briseurs de grève :</a:t>
            </a:r>
            <a:r>
              <a:rPr b="1" lang="fr-C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interdit aux patrons d’embaucher du personnel de remplacement pendant une grè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90000"/>
                </a:solidFill>
                <a:latin typeface="Arial"/>
                <a:ea typeface="Times New Roman"/>
              </a:rPr>
              <a:t>Plusieurs réalisations 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-</a:t>
            </a:r>
            <a:r>
              <a:rPr b="1" lang="fr-CA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ssurance-automobi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-</a:t>
            </a:r>
            <a:r>
              <a:rPr b="1" lang="fr-CA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Gratuité des médicaments pour les aîné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-</a:t>
            </a:r>
            <a:r>
              <a:rPr b="1" lang="fr-CA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Congé maternit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-</a:t>
            </a:r>
            <a:r>
              <a:rPr b="1" lang="fr-CA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Droits des handicapé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-</a:t>
            </a:r>
            <a:r>
              <a:rPr b="1" lang="fr-CA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Protection du territoire agrico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-</a:t>
            </a:r>
            <a:r>
              <a:rPr b="1" lang="fr-CA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Protection de l’environn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- Société de développement des industries culturel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3200" y="1557360"/>
            <a:ext cx="812340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Loi 101 : qui fera réagir fortement les anglophones. On contestera en cou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On subventionne plusieurs groupes populaires déjà entrepris dans les années 70 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La communauté se prend en charge et   devient partenaire avec le    gouvern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   </a:t>
            </a: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1980 : Référendum (20mai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2.3</a:t>
            </a:r>
            <a:r>
              <a:rPr b="1" lang="fr-CA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 LE RÉFÉRENDUM DE 198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640" y="2361960"/>
            <a:ext cx="81597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u fédéral: Trudeau revient avec deux buts 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combattre le nationalisme québéco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rapatrier la Constit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5776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2362320"/>
            <a:ext cx="87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Référendum du 20 mai 1980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La campagne divise la population en deu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OUI : avec Lévesqu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NON : avec Trudeau et Ry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e 14 mai, Trudeau promet que si le non l’emporte, il renouvellera la Constitu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évesque proposait de négocier d’égal à égal avec le Canada. Le Québec deviendrait souverain mais aurait une association économique avec le Canad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0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4360" y="-28440"/>
            <a:ext cx="770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38836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80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e NON l’emporte avec 60% des vo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Espoir pour un nouveau Canada chez les tenants du N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Grande déception chez les tenants du OUI qui mettront du temps à s’en remett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11280" y="2565360"/>
            <a:ext cx="8532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1975 : Année de la femme par l’O.N.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1977 : Le gouvernement commence à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       </a:t>
            </a: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subventionner les maisons d’hébergemen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           </a:t>
            </a: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pour les femmes victimes de violen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CA" sz="3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Mouvements étudiants</a:t>
            </a:r>
            <a:r>
              <a:rPr b="1" lang="fr-CA" sz="3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2362320"/>
            <a:ext cx="815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Octobre 1968 : première grève étudia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Ensuite UGEQ se dissout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On forme des petites associations par faculté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1974 : On refait le mouvement étudiant en pour :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                 </a:t>
            </a:r>
            <a:r>
              <a:rPr b="1" lang="fr-CA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- l’aide financiè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- grève généra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1975 : Création de L’ANEEQ en jusqu’à 1980 (fin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Les groupes populai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8534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Dans les années 60, il y a des comités d’action politique (CAP) qui vont former un parti politique sur la scène montréalaise, appelé FRAP (1970-1974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Ce parti sera battu entre autre à cause de la crise d’octob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1.5</a:t>
            </a:r>
            <a:r>
              <a:rPr b="1" lang="fr-CA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LA LOI 22 ET LA POURSUITE DU DÉBAT LINGUISTIQ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La langue est un sujet explosif au Québe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Les francophones veulent l’unilinguisme frança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Les anglophones veulent  la liberté de  choi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10920" y="2420640"/>
            <a:ext cx="830412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En 1974, le gouvernement Bourassa adopte la Loi 22 qui dit que le français est la seule langue officielle au Québe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Cependant, les enfants ayant une connaissance suffisante de l’anglais pourront aller vers des écoles anglaise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55280" y="1196640"/>
            <a:ext cx="8388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a loi indispose tout le monde 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es francophones la trouvent trop timi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es anglophones trouvent qu’elle brime leurs droi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es immigrants sont divisés en deux catégories : ceux qui peuvent se débrouiller en anglais et les aut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9:38:05Z</dcterms:created>
  <dc:creator>user</dc:creator>
  <dc:description/>
  <dc:language>en-US</dc:language>
  <cp:lastModifiedBy>Tech</cp:lastModifiedBy>
  <dcterms:modified xsi:type="dcterms:W3CDTF">2011-05-24T21:30:15Z</dcterms:modified>
  <cp:revision>16</cp:revision>
  <dc:subject/>
  <dc:title>Présentation PowerPoint</dc:title>
</cp:coreProperties>
</file>