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6AB-805B-4367-A5A0-4EA9F931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ABC-5B20-4DAA-813E-5D23064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959-70CA-495D-8931-A4234E34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70C-EAC3-413C-BD4F-32D8EE3E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1740-0FC1-40EE-B1DD-372A7B11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494-10C9-46A8-AF69-2A33D71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A5FF-97AF-4C95-B94F-8EDB5DFD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9091-3C76-4F07-BC6F-DE538DB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806A-4402-4AC2-8FE5-A914DC5B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F23F-52D0-4916-8F5E-42B4EB4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A728-E447-4D1A-8914-3010A97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9D7-5015-426D-AC80-758A2D99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94BC-41C7-4414-827C-F57F504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8FD5-A913-4EC3-B005-B1D71EA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A1B-896C-426B-BC1A-A73F4E7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2AE5-78F4-46C9-8A5E-C380781F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F545-2DB7-4124-93C1-DEB9442E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529-BDC7-42CB-8003-10F8A3E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E64-6E80-4065-B4E1-948065A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F8C-6C23-4E0D-950F-3A15A22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06B-5BF4-44C7-B0AB-0FA51A8F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AD3-9F91-4A59-BB2F-CEB8A82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DAD-6D90-4473-BDCA-58D943A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F63-4F0E-4E85-8696-8EE67204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3F94-E909-41FE-B57C-4535DAFA81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FA55-C260-4374-B817-675D48335DA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PITRE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PÉRIODE ACTUEL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2 RETOUR DE LA QUESTION LINGUIST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avec la Constitution qui permet le principe du choix individuel, les anglophones vont en cour suprême contre la loi 101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ls invoquent la «clause Canada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5000" y="990360"/>
            <a:ext cx="8896320" cy="52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8, la loi 101 est jugée inconstitutionnelle. Bourassa a recours à la clause «nonobstant» pour voter la loi 178 qui veut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ichage unilingue à l’extérie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ichage bilingue à l’intérie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ouvelable aux 5 ans (pas fait en 1993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rieux, les anglophones fondent le Parti Égalité qui ne durera pas.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3  DU LAC MEECH  À CHARLOTTET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677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urassa fait accepter 5 conditions pour que le Québe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gne l’entente constitutionnelle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 Droit de veto du Québe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 Reconnaissance du Québec comme société distinc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Limitation du pouvoir fédéral de dépenser dans 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aines de compétence provincia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  Participation du Québec à la nomination des jug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 la Cour suprême  (3 sur 9)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   Rôle important du Québec en immigr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486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es conditions seront appelées l’accord du Lac Meech qui sera rejeté par le Manitoba et Terre-Neuve en 199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252360" y="1341000"/>
            <a:ext cx="424800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rieux, Lucien Bouchard quitte le parti Conservateur et fonde le Bloc québéco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Québec intensifie les tendances nationalis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57560" y="0"/>
            <a:ext cx="50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24000" y="620640"/>
            <a:ext cx="3600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urassa crée la Commission d’enquête Bélanger-Campeau sur le statut politique du Québe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uggère de donner un ultimatum au Can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896320" cy="15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pport Allaire du Parti Libéral laisse voir une tendance nationaliste au sein de ce part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Bourassa signe l’accord de Charlottetown qui sera rejeté en octobre 1992 par la population canadienne lors d’un référendum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ours des négociations de cet accord, on a reproché à Bourassa d’avoir abandonné les 5 conditions de base de Mee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LA POURSUITE DU DÉBAT CONSTITUTIONNEL ET NATIONAL</a:t>
            </a:r>
            <a:r>
              <a:rPr b="1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ésumé des déb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rès le référendum de 1980, Trudeau entreprend de rapatrier la Constitution en 198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é Lévesque et le parti Libéral du Québec refusent les conditions d’Ottaw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4  RETOUR DU P.Q. AU POUVOIR ET RÉFÉRENDUM DE 1995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3, Jean Chrétien et le Parti Libéral prennent le pouvoir à Ottaw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fédéral, deux nouveaux partis depuis 1993 : le Bloc québécois (Lucien Bouchard) qui sera l’opposition officielle et le Reform Party (Preston Manning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Parti Conservateur n’aura que deux député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u provincial, en 1994, élection du P.Q. avec Parizeau comme chef. Parizeau énonce 5 étapes à franchir avant la souveraineté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4640" y="1066320"/>
            <a:ext cx="938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. Consultation régionale sur l’avant-projet 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oi sur la souverainet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. Rapport des commissions sur l’avenir du Québec </a:t>
            </a:r>
            <a:br>
              <a:rPr sz="3200"/>
            </a:b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Le Parti Libéral refuse d’y particip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. Formulation du projet de loi sur la souveraine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. Vote de l’Assemblée nationale sur le projet de lo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. Référendum sur le projet de lo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4640" y="1483920"/>
            <a:ext cx="9009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5 : Référendum sur la souveraine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cien Bouchard se démarque et prend le leadersh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-55440"/>
            <a:ext cx="70153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Times New Roman"/>
              </a:rPr>
              <a:t>RÉSULTA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1699920"/>
            <a:ext cx="8896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fédéralistes ne s’entendent pas bi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sultats :  49.4% OUI       50.6% N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cours controversé de Parizeau  (il attribue la défaite à l’argent et aux votes ethniques) suivi de sa démi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uchard le remplace comme chef de parti et Premier mini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atégie fédéraliste après cela 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628640"/>
            <a:ext cx="88963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fera des changements sans toucher la Constit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va dissuader les Québécois avec le plan B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conditions de séc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partition du territoi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2.  LA FIN DE LA CROISSANCE ÉCONOMIQU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722320"/>
            <a:ext cx="9144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uis 1970, l’inflation et le chômage sont en hausse malgré les progrès technologiqu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888480"/>
            <a:ext cx="914400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  NOUVELLES POLITIQUES ÉCONOMIQUES ET SOCIALE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éolibéralisme (au début des années 1980)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ouveau dans la confiance envers les mécanismes du marché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par opposition à l’intervention de l’État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5000" y="1066320"/>
            <a:ext cx="88963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cession en 1981-1982 déclenche ce tournant néolibéraliste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s dépenses du gouvern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aisse des reven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s défic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ligation de compresser les dépenses.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premières vagues de coupures viennent de Trudeau et Lévesque mais le tournant néolibéraliste sera fait par Mulroney et Bourass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5000" y="1143000"/>
            <a:ext cx="8896320" cy="51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parti Libéral du Québec pose des conditions pour accepter l’ent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s conditions seront à la base de l’entente du Lac Meech qui sera ensuite rejetée en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rejet de l’accord de Charlottetow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5, échec (par une mince marge) du deuxième référendum québécois (Parizeau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8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87280" y="2627280"/>
            <a:ext cx="6769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Québec, l’État se retire progressivement de l’économie. On remet en question les programmes sociaux et les mesures de sécurité au travai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oyens utilisé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ivatisation de sociétés d’Ét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l des salaires (parfois réduction) des employés du secteur publi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éduction des programmes socia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uvelle méthode de tarification ou augmentation des frais perçus pour divers services. (TPS et TV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traites anticipé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vise le déficit ZÉRO. C’est encore d’actualité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8480" y="9810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1  LA MONDIALISATION DES MARCHÉ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2116080"/>
            <a:ext cx="885204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béralisation des échanges commerciaux et de la circulation des capitaux dans le mon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traité de libre-échange signé en 1989 (ALENA) entre le Canada et les États-Unis  et auquel s’est joint le Mexique en 1992 en est un exemple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41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mondialisation est –elle une solution à la crise ou une cause ? Les avis sont partagé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À l’heure actuelle, on connaît une vive opposition à la mondialisation. Toute réunion sur l’économie mondiale entraîne un mouvement de contestation (sommet Asie-Pacifique en 1997, Seattle, Québec, etc.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r plusieurs partisans de l’État-providence et de la social-démocratie, la seule solution semble être la mondialisation de l’État –provid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900900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1  RAPATRIEMENT DE LA CONSTITU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116080"/>
            <a:ext cx="9031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0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usieurs rencontres fédérale-provinciales mais pas d’ent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udeau menace de rapatrier unilatéralement la Constitu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ur dit que c’est légal, mais contraire aux conventions constitutionnel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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tente de dernière heure (nuit des longs couteaux) sauf avec le Québe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05280" y="1599840"/>
            <a:ext cx="9448920" cy="49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la reine vient officialiser la nouvelle Constitution en 3 volet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Rapatrie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Formule d’amende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Charte des droits et liberté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us les partis politiques québécois rejettent cette loi qui ne reconnaît pas le caractère particulier du Québec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5000" y="1052640"/>
            <a:ext cx="889632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4, arrivée de Brian Mulroney au pouvoir (conservateur). Il veut ramener le Québec dans le giron fédéral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évesque accepte le risque, ce qui cause une scission dans le Parti québéco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évesque démissionne en 198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u après, Bourassa est él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3:36:45Z</dcterms:created>
  <dc:creator>user</dc:creator>
  <dc:description/>
  <dc:language>en-US</dc:language>
  <cp:lastModifiedBy>Tech</cp:lastModifiedBy>
  <dcterms:modified xsi:type="dcterms:W3CDTF">2011-05-24T22:02:52Z</dcterms:modified>
  <cp:revision>9</cp:revision>
  <dc:subject/>
  <dc:title>CHAPITRE 9</dc:title>
</cp:coreProperties>
</file>