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051-2002-4870-B2A8-1F82B4E4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91A-716A-4C43-B248-CDDB0130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8A9-5B36-41C3-8F4E-27774519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503-8161-4F9F-BC09-AAC6D958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13E2-0A53-4131-A52C-17F3C249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7F34-BF07-42FB-8956-7D4EF8F5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FCB7-3C69-4D85-8495-A156CFF7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46D9-EEE8-4D80-BDC8-BAC601F4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B0FE-9342-4258-9245-E830059C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A551-3D1F-486C-AD39-E6990424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7545-4270-4839-83CB-14E3706B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D0A-5858-4BAD-A4BC-61BF60E4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EA02-98A2-43FE-96F2-46FF4378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5E02-8364-4EC8-B26A-CEA596DD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DA8E-8470-47DC-AE70-FB4FC7C4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CABD-C0FC-41BE-9AA5-D031049E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7DC5-6448-4E75-B9A5-86CF3D92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EF5-255A-462D-8C53-7ADFAFC3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3D1-7839-459F-ACF6-17916D55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E81-CAD9-4783-AAAA-68CB94F8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CF3-6051-4E4B-AF73-DBC73ADF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7CC-D153-4407-B4C9-ABACDCC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E0E-6A0E-4DAD-A86F-E9474276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726-8348-43A3-9BE2-617188D6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EA7F-9418-40B8-B2C3-934F627CE7A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820B-50DE-4960-BD8C-42CAA67C978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.3  LE SYNDICALISME ET LES MOUVEMENTS SOCIAUX </a:t>
            </a:r>
            <a:br>
              <a:rPr sz="3200"/>
            </a:br>
            <a:r>
              <a:rPr b="1" lang="fr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ACE À LA CRI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EMMES 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5000" y="2116080"/>
            <a:ext cx="8896320" cy="474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remarque une certaine humanisation de la politiq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lles occupent des postes clés mais tout n’est pas encore gagné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lles doivent continuer à se batt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942840"/>
            <a:ext cx="91440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35000" y="1066680"/>
            <a:ext cx="88963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éveloppement d’un réseau de gard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diction du harcèlement inclus dans la Charte  québécoise des droits et libertés de la personne en 1982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3, le viol conjugal est reconnu dans la catégorie des voies de fait dans le Code crimine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pratique de l’avortement devient légale en 1988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Cause Morgantaler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-14400"/>
            <a:ext cx="72723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8896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marche «Du pain et des roses» en 1995 obtient un grand succè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lle visait à lutter contre la pauvreté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tte marche sera reprise mondialement en 2000 avec remise d’une pétition aux Nations-Un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.4  LES AUTOCHTONES DU QUÉBEC, ENJEUX TERRITORIAU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722320"/>
            <a:ext cx="9144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6, on demande aux Autochtones de préciser leurs droits sur le territoire, c’est-à-dire de prouver l’occupation immémoriale sur le territoire revendiqu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2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ise d’Oka (1990) est le premier affrontement en vertu de cette demand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n promoteur veut agrandir le terrain de golf et l’emplacement convoité est un cimetière mohawk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ne longue lutte s’eng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88851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YNDICATS 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ltiplication des emplois à temps partiel </a:t>
            </a:r>
            <a:br>
              <a:rPr sz="3200"/>
            </a:b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t des emplois temporai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écurité d’emploi de plus en plus r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currence mondiale for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ausse du chôm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’autres affrontements eurent lieu en Colombie-Britannique en 1995, en Ontario en 1995, dans les Maritimes au cours des années suivan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Québec est la seule province qui fait des ententes bilatérales sur les services publics et la gestion des ressources naturelles avec les Amérindie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territoire est la principale source de richesse potentielle pour les Premières Nations et la seule source de leur autonomie économique et politiq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ur mettre fin à la dépendance, les Autochtones doivent reprendre le contrôle de leurs ressourc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8480" y="54936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LES ENJEUX ACTUE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’est le «village global» annoncé par les théoriciens qui semble devenir réalit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Mondialis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relations interculturel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multinat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mouvements migratoi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réseau mondial de communic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1  SOCIÉTÉ MULTIETHNIQ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6080"/>
            <a:ext cx="8896320" cy="474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diversification est généralisée dans les pays occidentaux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la provoque des attitudes opposées 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lérance (influence réciproqu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jet (ghettos et racism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Canada et au Québec, </a:t>
            </a:r>
            <a:br>
              <a:rPr sz="3600"/>
            </a:b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a des lois pour éviter la discrimination 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arte des droits et liberté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éation d’organism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</a:rPr>
              <a:t>Nous sommes tous des Québéco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1220472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Canada, on encourage le multiculturalis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Québec on met l’accent sur l’adoption des valeurs de base de la société d’accue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rfois les mœurs et les coutumes créent des cha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2  NOUVEAU CONTEXTE POLITIQ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ise de l’État-providence </a:t>
            </a:r>
            <a:br>
              <a:rPr sz="3600"/>
            </a:b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t de la social-démocrati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tour du libéralisme économique </a:t>
            </a: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néolibéralism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9031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luttes syndicales portent sur le maintien des emplois et des acqui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cherche aussi à créer des organisations pour regrouper les travailleurs autonomes et ceux des petites entreprises de servi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ux phénomènes contradictoires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Les pays indépendants se multiplient (davantage de conflits civils et internationau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) Augmentation des facteurs de regroupement à l’échelle mondiale (commerce, traités, communication, migration, etc.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708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ise de la gauche après l’effondrement du bloc de l’Est et du modèle communis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eux grands problèmes seront à régler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4640" y="2438280"/>
            <a:ext cx="9009000" cy="38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La pauvreté dans le mon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seuil de la pauvreté va croiss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) La poll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grandes entreprises sont peu affectées par les amendes imposé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gens sont plus consci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. LES PREMIÈRES NATIONS : 500 ANS APRÈS COLOMB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ans les années 1960, on visait à faire des Autochtones des citoyens ordinai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ans les années 1980 on passe à leur reconnaissance comme nations et on parle même de leur autonomie colle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2, front commun des Autochtones du Québec qui présente ses revendications au gouvernement du Québe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3, le conseil des ministres adopte une déclaration en quinze principes 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peuples aborigènes du Québec sont des nations distinc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roit à leur culture et à leur lang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roit de posséder et contrôler leurs terres, et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tte reconnaissance est limitée par «les lois du Québec»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puis 1985, tous les gouvernements québécois ont affirmé la volonté du Québec d’accorder l’autonomie gouvernementale aux peuples autochton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négociations sont longues et diffici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609120"/>
            <a:ext cx="8885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ans le secteur public, </a:t>
            </a:r>
            <a:br>
              <a:rPr sz="3200"/>
            </a:b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n assiste à un revirement :</a:t>
            </a:r>
            <a:r>
              <a:rPr b="0" lang="fr-FR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1557360"/>
            <a:ext cx="889632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rontement entre ente le P.Q. et les syndicats (ex. loi spéciale en 1982 pour mettre fin à la grève des enseignants ; loi spéciale contre la grève des infirmiers et infirmières en 1999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Centrales vont aller vers la concertation, la gestion participative (Fonds de solidarité, etc.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9144000" cy="35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fédéral, on a accordé l’autonomie gouvernementale aux Inuits du Nunavut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sans protection constitutionnelle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t accord s’est réalisé parce que les Autochtones sont majoritai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2115720"/>
            <a:ext cx="9031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1, la Commission royale (Erasmus-Dusseault) confirme le droit à l’autonomie gouvernementale des Autocht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2, l’O.N.U. porte une attention nouvelle à la question des peuples aborigè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cc99"/>
                </a:solidFill>
                <a:latin typeface="Times New Roman"/>
              </a:rPr>
              <a:t>Aujourd’hui :</a:t>
            </a:r>
            <a:br>
              <a:rPr sz="4000"/>
            </a:br>
            <a:br>
              <a:rPr sz="4000"/>
            </a:br>
            <a:r>
              <a:rPr b="1" lang="fr-CA" sz="3600" spc="-1" strike="noStrike">
                <a:solidFill>
                  <a:srgbClr val="ffff66"/>
                </a:solidFill>
                <a:latin typeface="Times New Roman"/>
              </a:rPr>
              <a:t>Les Premières Nations sont impliquées dans les négociations et exigent le respects de leurs droi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471600"/>
            <a:ext cx="91440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2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ausse de la pauvreté. </a:t>
            </a:r>
            <a:br>
              <a:rPr sz="3200"/>
            </a:br>
            <a:r>
              <a:rPr b="1" lang="fr-C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récession profite aux rich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t taux de chômage chez les jeunes qui vont réclamer la parité salaria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ÉTUDIANTS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42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ien entre emploi et scolarisation : il y a plus  d’emplois pour ceux qui ont des études que pour les décrocheu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gmentation du décrochage au secondai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uatre grèves des étudiants entre 1986 et 1996 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rais de scolarit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ide financiè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21:42:12Z</dcterms:created>
  <dc:creator>user</dc:creator>
  <dc:description/>
  <dc:language>en-US</dc:language>
  <cp:lastModifiedBy>Tech</cp:lastModifiedBy>
  <dcterms:modified xsi:type="dcterms:W3CDTF">2011-05-24T22:42:02Z</dcterms:modified>
  <cp:revision>7</cp:revision>
  <dc:subject/>
  <dc:title>2.3  LE SYNDICALISME ET LES MOUVEMENTS SOCIAUX FACE À LA CRISE</dc:title>
</cp:coreProperties>
</file>