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C7A-6618-48A7-B36E-B4226DDF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FD7-4F07-41B4-94C0-A8A75418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24F-CD83-4545-94DB-836047D8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5B05-DAF5-4BDF-9752-42C3923F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147D-1B5E-4ADC-BF44-61170C43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2D1E-FF80-4B3E-98F0-1C882DE9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998F-BEEB-4121-AAF8-4F6650F1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238A-F167-4BD6-A2A1-C02D5288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0B44-5919-43DB-9686-E830D8AE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BB99-89AF-4ABB-832C-3483135A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1FE7-299E-4587-A886-AD5D9BCA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3C2B-7E0A-462A-84F2-ABF29D2F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6565-ACF1-41E2-8F32-730D0EA1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22D1-78BD-422B-9D2D-DB821A94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6882-10BB-404F-982B-ADE3CD96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B6F2-B152-4335-9DB2-41B53A4D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A6A0-A997-4ED8-BD44-BDD74769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4A7-BD0E-4641-BDA6-87B4B184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DB1-A965-4666-9B7D-CD7C466D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4C2-E943-4FF8-9306-C868F533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8FDD-E1E2-41F1-A461-889BEB16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EAB-1F2B-4700-ABAA-D40C88F0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24A-076B-4D1A-A744-E76E5529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E3EC-A00A-4118-B98E-426ECE04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9E45-EDCA-42D1-A93B-6777052E9E0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0F06-6490-42FA-A393-A5E1C6EB84B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.3  LE SYNDICALISME ET LES MOUVEMENTS SOCIAUX </a:t>
            </a:r>
            <a:br>
              <a:rPr sz="3200"/>
            </a:br>
            <a:r>
              <a:rPr b="1" lang="fr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FACE À LA CRI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CA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FEMMES 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5000" y="2116080"/>
            <a:ext cx="8896320" cy="474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remarque une certaine humanisation de la politiqu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lles occupent des postes clés mais tout n’est pas encore gagné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lles doivent continuer à se batt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942840"/>
            <a:ext cx="914400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35000" y="1066680"/>
            <a:ext cx="889632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éveloppement d’un réseau de gard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terdiction du harcèlement inclus dans la Charte  québécoise des droits et libertés de la personne en 1982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83, le viol conjugal est reconnu dans la catégorie des voies de fait dans le Code crimine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pratique de l’avortement devient légale en 1988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Cause Morgantaler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00000" y="-14400"/>
            <a:ext cx="727236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8896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marche «Du pain et des roses» en 1995 obtient un grand succè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lle visait à lutter contre la pauvreté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ette marche sera reprise mondialement en 2000 avec remise d’une pétition aux Nations-Un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.4  LES AUTOCHTONES DU QUÉBEC, ENJEUX TERRITORIAUX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2722320"/>
            <a:ext cx="91440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86, on demande aux Autochtones de préciser leurs droits sur le territoire, c’est-à-dire de prouver l’occupation immémoriale sur le territoire revendiqué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2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rise d’Oka (1990) est le premier affrontement en vertu de cette demand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n promoteur veut agrandir le terrain de golf et l’emplacement convoité est un cimetière mohawk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ne longue lutte s’enga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888516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YNDICATS 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ultiplication des emplois à temps partiel </a:t>
            </a:r>
            <a:br>
              <a:rPr sz="3200"/>
            </a:b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t des emplois temporai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écurité d’emploi de plus en plus r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ncurrence mondiale for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ausse du chôma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’autres affrontements eurent lieu en Colombie-Britannique en 1995, en Ontario en 1995, dans les Maritimes au cours des années suivan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 Québec est la seule province qui fait des ententes bilatérales sur les services publics et la gestion des ressources naturelles avec les Amérindie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 territoire est la principale source de richesse potentielle pour les Premières Nations et la seule source de leur autonomie économique et politiqu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ur mettre fin à la dépendance, les Autochtones doivent reprendre le contrôle de leurs ressourc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8480" y="54936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.LES ENJEUX ACTUE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’est le «village global» annoncé par les théoriciens qui semble devenir réalité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Mondialis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relations interculturel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multination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mouvements migratoi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réseau mondial de communic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77148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.1  SOCIÉTÉ MULTIETHNIQU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6080"/>
            <a:ext cx="8896320" cy="474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diversification est généralisée dans les pays occidentaux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ela provoque des attitudes opposées 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lérance (influence réciproqu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jet (ghettos et racism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u Canada et au Québec, </a:t>
            </a:r>
            <a:br>
              <a:rPr sz="3600"/>
            </a:b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a des lois pour éviter la discrimination 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harte des droits et liberté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réation d’organism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</a:rPr>
              <a:t>Nous sommes tous des Québéco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1220472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u Canada, on encourage le multiculturalis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u Québec on met l’accent sur l’adoption des valeurs de base de la société d’accuei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arfois les mœurs et les coutumes créent des cha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.2  NOUVEAU CONTEXTE POLITIQU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rise de l’État-providence </a:t>
            </a:r>
            <a:br>
              <a:rPr sz="3600"/>
            </a:b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t de la social-démocrati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tour du libéralisme économique </a:t>
            </a: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néolibéralisme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360" y="981000"/>
            <a:ext cx="903132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s luttes syndicales portent sur le maintien des emplois et des acqui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cherche aussi à créer des organisations pour regrouper les travailleurs autonomes et ceux des petites entreprises de servi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ux phénomènes contradictoires 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) Les pays indépendants se multiplient (davantage de conflits civils et internationaux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) Augmentation des facteurs de regroupement à l’échelle mondiale (commerce, traités, communication, migration, etc.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270828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rise de la gauche après l’effondrement du bloc de l’Est et du modèle communis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eux grands problèmes seront à régler 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4640" y="2438280"/>
            <a:ext cx="9009000" cy="38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) La pauvreté dans le mon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 seuil de la pauvreté va croissa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600120"/>
            <a:ext cx="9144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9144000" cy="40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) La pollu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s grandes entreprises sont peu affectées par les amendes imposé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s gens sont plus consci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1. LES PREMIÈRES NATIONS : 500 ANS APRÈS COLOMB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ans les années 1960, on visait à faire des Autochtones des citoyens ordinair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ans les années 1980 on passe à leur reconnaissance comme nations et on parle même de leur autonomie collectiv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82, front commun des Autochtones du Québec qui présente ses revendications au gouvernement du Québe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83, le conseil des ministres adopte une déclaration en quinze principes 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s peuples aborigènes du Québec sont des nations distinc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roit à leur culture et à leur lang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roit de posséder et contrôler leurs terres, et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ette reconnaissance est limitée par «les lois du Québec»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9144000" cy="35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puis 1985, tous les gouvernements québécois ont affirmé la volonté du Québec d’accorder l’autonomie gouvernementale aux peuples autochton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s négociations sont longues et diffici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609120"/>
            <a:ext cx="8885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ans le secteur public, </a:t>
            </a:r>
            <a:br>
              <a:rPr sz="3200"/>
            </a:b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n assiste à un revirement :</a:t>
            </a:r>
            <a:r>
              <a:rPr b="0" lang="fr-FR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1557360"/>
            <a:ext cx="8896320" cy="53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ffrontement entre ente le P.Q. et les syndicats (ex. loi spéciale en 1982 pour mettre fin à la grève des enseignants ; loi spéciale contre la grève des infirmiers et infirmières en 1999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s Centrales vont aller vers la concertation, la gestion participative (Fonds de solidarité, etc.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1916280"/>
            <a:ext cx="9144000" cy="35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u fédéral, on a accordé l’autonomie gouvernementale aux Inuits du Nunavut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sans protection constitutionnelle)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et accord s’est réalisé parce que les Autochtones sont majoritair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585720"/>
            <a:ext cx="914400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2115720"/>
            <a:ext cx="9031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91, la Commission royale (Erasmus-Dusseault) confirme le droit à l’autonomie gouvernementale des Autochton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1992, l’O.N.U. porte une attention nouvelle à la question des peuples aborigèn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cc99"/>
                </a:solidFill>
                <a:latin typeface="Times New Roman"/>
              </a:rPr>
              <a:t>Aujourd’hui :</a:t>
            </a:r>
            <a:br>
              <a:rPr sz="4000"/>
            </a:br>
            <a:br>
              <a:rPr sz="4000"/>
            </a:br>
            <a:r>
              <a:rPr b="1" lang="fr-CA" sz="3600" spc="-1" strike="noStrike">
                <a:solidFill>
                  <a:srgbClr val="ffff66"/>
                </a:solidFill>
                <a:latin typeface="Times New Roman"/>
              </a:rPr>
              <a:t>Les Premières Nations sont impliquées dans les négociations et exigent le respects de leurs droit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471600"/>
            <a:ext cx="91440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2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ausse de la pauvreté. </a:t>
            </a:r>
            <a:br>
              <a:rPr sz="3200"/>
            </a:br>
            <a:r>
              <a:rPr b="1" lang="fr-C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récession profite aux rich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t taux de chômage chez les jeunes qui vont réclamer la parité salaria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ÉTUDIANTS 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42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ien entre emploi et scolarisation : il y a plus  d’emplois pour ceux qui ont des études que pour les décrocheu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ugmentation du décrochage au secondai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uatre grèves des étudiants entre 1986 et 1996 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rais de scolarit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fr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ide financiè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21:42:12Z</dcterms:created>
  <dc:creator>user</dc:creator>
  <dc:description/>
  <dc:language>en-US</dc:language>
  <cp:lastModifiedBy>Tech</cp:lastModifiedBy>
  <dcterms:modified xsi:type="dcterms:W3CDTF">2011-05-24T22:42:02Z</dcterms:modified>
  <cp:revision>7</cp:revision>
  <dc:subject/>
  <dc:title>2.3  LE SYNDICALISME ET LES MOUVEMENTS SOCIAUX FACE À LA CRISE</dc:title>
</cp:coreProperties>
</file>