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1BAA-5EB2-41BF-BA9A-3F0D0603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0743-2F09-465E-A1D2-E2754981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F45C-B37E-46EE-8246-90CD6570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54F3-5AB4-484E-BCEC-E10E423C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B8BA-0537-4D97-8A34-34E81026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2C28-B608-41EE-B7C3-37EE31E6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CBF-760F-49A6-964E-9DBC4AC6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A3A-A119-46C3-B087-E8F5E67D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8724-CD33-41CB-AA8B-1801DA34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2B3-2232-49BF-8D58-693B570F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7850-4472-4D35-B25D-E50EAEBB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1A1B-CB25-4BCC-AFAD-66569993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827C-05DF-4AC9-A8A5-84C195B5C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685800" y="692280"/>
          <a:ext cx="9829800" cy="53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5800" y="692280"/>
                    <a:ext cx="982980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3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AL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457200" y="198108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George Brown</a:t>
            </a: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(chef des Clear Grits) 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obtient 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repré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proportionnel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4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829080" y="0"/>
            <a:ext cx="374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John A.Macdona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chef des Libéraux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conservate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obtient plus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pouvoirs p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le gouver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fédé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20000" cy="6846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0" y="0"/>
            <a:ext cx="4572000" cy="50133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orges É. Carti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Chef du parti bleu) 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tient un gouvernement provincial pour le canada françai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Vers la Confédératio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ptembre 1864 : Conférence 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rlottet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t : Union des colonies anglaises de l’Atlantique (Île-du-Prince-Édouard, Nouveau-Brunswick, Nouvelle-Écosse, Terre-Neuv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s gouvernements de ces colon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ulent les un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826920" y="263520"/>
          <a:ext cx="7583760" cy="59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63520"/>
                    <a:ext cx="7583760" cy="59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FÉRENCE DE CHARLOTTETOW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1476360" y="1951200"/>
            <a:ext cx="113410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FÉRENCE DE QUÉBE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Octobre 1864 : Conférence de Québe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Adoption des 72 résolutions visant à former l’union fédérale centralisé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Ce sera la base de l’Acte de l’Amérique du Nord  (A.A.N.B.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On inclut la nécessité de construire l’Intercolon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Que dit la population sur ce projet 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u Canada-Un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 : il y a débat en chambre et vote d’acceptation des députés. La       population n’est pas consultée direct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39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.P.É. et Terre-Neuv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 : le projet est rejeté par les député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ouvelle-Écos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 : projet accepté en 186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ouveau-Brunswick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 : le gouverneur intervient et le projet est accepté en 1866 après deux éle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APITRE 1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 Confédération de 186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férence de Londres en décembre 1866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On s’entend sur 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Le nom : DOMINION DU Can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La devise : A MARI USQUE AD MARE  (D’un océan à l’autr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Il y aura des écoles séparées pour les anglo-protestants au Canada-Est  (Québec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Acceptation de l’A.A.N.B.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r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adopte l’A.A.N.B. en mars 186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 proclamation officielle sera faite le 1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juillet 1867 à Ottawa (siège du gouvernement fédér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atre provinces formeront le Canada : Ontario, Québec, Nouveau-Brunswick et Nouvelle-Écos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FÉDÉRALISM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Union de plusieurs états qui se soumettent à un pouvoir général tout en conservant un gouvernement particulie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omment se  répartissent les pouvoirs 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l y a quatre types de pouvoirs 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UVOIRS EXCLUSIFS AU FÉDÉR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 affaires général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 : politique étrangère ; commerce international ; armée ; pouvoirs résiduaires. Banques, monnaie, navigation, pêcheries, pos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ouvoirs exclusifs aux gouvernements provinciaux.</a:t>
            </a:r>
            <a:br>
              <a:rPr sz="4800"/>
            </a:b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________________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es affaires locales 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anté, éducation, travau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ublics ; etc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6000" spc="-1" strike="noStrike" u="sng">
                <a:solidFill>
                  <a:srgbClr val="ffffff"/>
                </a:solidFill>
                <a:uFillTx/>
                <a:latin typeface="Times New Roman"/>
              </a:rPr>
              <a:t>Pouvoirs partagés.</a:t>
            </a:r>
            <a:br>
              <a:rPr sz="60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griculture et immigra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Times New Roman"/>
              </a:rPr>
              <a:t>Pouvoirs résiduaires.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ut ce qui n’est pas mentionné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ans la Constitution (ex. cinéma 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.V. ; téléphone 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élécommunications …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ls appartiennent au fédér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rtrait de l’époque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ritoir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erre de Sécession aux États-Unis (Sud contre le Nord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'Angleterre appuie le Su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 Nord veut attaquer le Can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te de la protection anglaise (libre échang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soin de former une union militaire des colonies anglai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419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aque gouvernement est autonome dans son doma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 gouvernement fédéral peut intervenir si l’intérêt national l’exig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ex. éduc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Grande-Bretagne, au niveau international, parle au nom du Canada.  Elle a le contrôle des relations extérieu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 Dominion du Canada demeure toujours une colonie anglaise (ce n’est pas un état souverain) mais il peut administrer son territoire comme un état souver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LA STRUCTURE POLITIQUE du GOUVERNEMENT FÉDÉRAL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5433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e Canada est toujours une monarchie constitutionnelle. Le réel pouvoir est exercé par le Premier ministre et le cabine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e gouverneur général est nommé par l’Angleterre en 1867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Le gouvernement législatif se divise en deux chambr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 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Le Sénat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 (appelé chambre haute) : membres nommés par le gouverneur général sur recommandation du Premier ministre. En 1867, il comprend 72 membres nommés à vie. Il vote, amende ou rejette les lois approuvées par la chambre des commu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a Chambre des commune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(appelée chambre basse). Elle est composée des députés élus  au suffrage censitaire et masculin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 chef du parti ayant obtenu le plus de votes nomme 13 ministres (nous sommes en 1867 !) et ils forment l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binet des ministr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Ils exécutent les décisions du Parlement. Ils sont le pouvoir exécuti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L’administration de la justic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 :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 Cour suprême est le plus haut tribunal. Elle fut créée en 1875. Le gouvernement fédéral nomme les juges des cours supérieures des provinc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 français et l’anglais sont reconnus comme langues officielles au fédéral et au Québec seuleme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QUI VOTE 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9448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 1864 :15 % de la population adulte a le droit de vo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  abaisse le cens électoral (propriété ou revenu) à quelques repri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 1915 :Interdiction aux Amérindiens de vo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 1917 :droit de vote accordé aux femmes au niveau fédé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À partir de 1875 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ote secret.Le financement des partis politiques est réglementé (pour limiter  la corruptio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4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 STRUCTURE POLITIQUE des GOUVERNEMENTS PROVINCIAUX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ieutenant gouverneu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 : nommé par le Premier ministre fédéral (a le droit de désavouer les loi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’Assemblée législativ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 : élue par le peuple au suffrage universel.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 Premier ministre provinci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est le chef du parti ayant obtenue le la majorité des voix et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 cabine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des ministres nommés par le Premier ministre parmi les députés élus de son par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LES AMÉRINDIENS DANS LA CONFÉDÉR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On pense qu’ils s’en vont vers l’extin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 veut les amener à s’assimiler ou on les isole sur des terres réduites (réserves) pour qu’ils s’adonnent à l’agricult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usieurs traités sont signés où les Amérindiens renoncent à leurs territoires en échange de droits et d’arg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s traités entraînent l’expansion vers l’Ou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RTRAIT DE L ’ÉPOQUE (suite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Économi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 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 1865 : non-renouvellement du traité de réciprocité avec les États-Un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e sera un dur coup pour l’économi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ela entraîne l’union du Canada-Uni et des Maritimes pour former un ensemble commercial (marché intérieu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La construction de l’Intercolonial 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Le chemin de fer sera prolongé de Rivière-du-Loup à Halifax. Il traversera maintenant le Canada-Uni, le Nouveau-Brunswick et la Nouvelle-Écosse. Ce sont trois colonies appartenant à l ’Angleter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L’Angleterre prêtera l’argent pour la construction à une condition : </a:t>
            </a:r>
            <a:r>
              <a:rPr b="1" lang="fr-CA" sz="2800" spc="-1" strike="noStrike" u="sng">
                <a:solidFill>
                  <a:srgbClr val="ffffff"/>
                </a:solidFill>
                <a:uFillTx/>
                <a:latin typeface="Times New Roman"/>
              </a:rPr>
              <a:t>la bonne entente entre les colon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RTRAIT DE L ’ÉPOQUE (suit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litique</a:t>
            </a: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 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Grande instabilité politique à partir de 1851 (après la démission de Baldwin et Lafontain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Les députés défendent chacun leur région avant t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Dissension au sein des Réformis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Radicaux :  Clear Grits à l’Ouest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Parti rouge à l’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Modérés et conservateurs : Libéraux conservateurs à l’Ouest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Libéraux conservateurs (bleus) à l’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43640" cy="2808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9144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Les Clear Grits demandent la représentation proportionnelle car les Canadiens anglais sont devenus plus nombreux que les Canadiens frança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L’instabilité politique paralyse le gouvernement du Canada-Uni (5 gouvernements en 2 an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En 1864, les chefs de partis du Canada-Uni vont s’entendre (coalition) pour former une union fédérale 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5T20:26:15Z</dcterms:created>
  <dc:creator>lebel</dc:creator>
  <dc:description/>
  <dc:language>en-US</dc:language>
  <cp:lastModifiedBy>Tech</cp:lastModifiedBy>
  <dcterms:modified xsi:type="dcterms:W3CDTF">2011-05-18T20:03:46Z</dcterms:modified>
  <cp:revision>58</cp:revision>
  <dc:subject/>
  <dc:title>CHAPITRE 1 </dc:title>
</cp:coreProperties>
</file>