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FCBC-8857-406E-BD85-8E079084B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6994-33A6-4E43-B667-EA505200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1C00-375B-46A0-B4FF-7BB52BAE5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C637-F48A-40EB-88D9-07F9ADBDD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B035-5D1D-4911-80C7-EBB33CE0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ADEF-CE6F-4ACB-96EB-5927EBC7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869F-05DF-42D1-AC8A-8E403CB7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0F4A-466A-4F77-87DE-518DC1E3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5798-59F9-45D2-A9F2-DFC8F116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C4AA-35E3-43D8-85E2-05025C51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C559-86F8-428E-B166-2817FA6B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F3C5-86CF-4A55-BDEE-441644E3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739B-0946-411B-9CEC-D4122CC97E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685800" y="692280"/>
          <a:ext cx="9829800" cy="53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85800" y="692280"/>
                    <a:ext cx="9829800" cy="53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34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ALI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457200" y="198108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</a:rPr>
              <a:t>George Brown</a:t>
            </a: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(chef des Clear Grits) 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obtient 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représ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proportionnel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5435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4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829080" y="0"/>
            <a:ext cx="3745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John A.Macdona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chef des Libéraux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conservateu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obtient plus 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pouvoirs po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le gouvern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fédér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132000" y="0"/>
            <a:ext cx="601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20000" cy="68468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115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0" y="0"/>
            <a:ext cx="4572000" cy="501336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eorges É. Carti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Chef du parti bleu) 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btient un gouvernement provincial pour le canada françai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Vers la Confédératio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ptembre 1864 : Conférence d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arlottet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ut : Union des colonies anglaises de l’Atlantique (Île-du-Prince-Édouard, Nouveau-Brunswick, Nouvelle-Écosse, Terre-Neuve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es gouvernements de ces coloni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eulent les uni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826920" y="263520"/>
          <a:ext cx="7583760" cy="597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63520"/>
                    <a:ext cx="7583760" cy="59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FÉRENCE DE CHARLOTTETOW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1476360" y="1951200"/>
            <a:ext cx="1134108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FÉRENCE DE QUÉBE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Octobre 1864 : Conférence de Québe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Adoption des 72 résolutions visant à former l’union fédérale centralisé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Ce sera la base de l’Acte de l’Amérique du Nord  (A.A.N.B.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On inclut la nécessité de construire l’Intercolon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Que dit la population sur ce projet ?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u Canada-Uni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 : il y a débat en chambre et vote d’acceptation des députés. La       population n’est pas consultée directe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573360"/>
            <a:ext cx="914400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391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I.P.É. et Terre-Neuv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 : le projet est rejeté par les député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Nouvelle-Écoss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 : projet accepté en 1866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Nouveau-Brunswick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 : le gouverneur intervient et le projet est accepté en 1866 après deux élec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HAPITRE 1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 Confédération de 1867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onférence de Londres en décembre 1866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</a:rPr>
              <a:t>On s’entend sur 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</a:rPr>
              <a:t>Le nom : DOMINION DU Can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</a:rPr>
              <a:t>La devise : A MARI USQUE AD MARE  (D’un océan à l’autre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</a:rPr>
              <a:t>Il y aura des écoles séparées pour les anglo-protestants au Canada-Est  (Québec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Acceptation de l’A.A.N.B.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 algn="r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n adopte l’A.A.N.B. en mars 186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a proclamation officielle sera faite le 1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e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juillet 1867 à Ottawa (siège du gouvernement fédéra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atre provinces formeront le Canada : Ontario, Québec, Nouveau-Brunswick et Nouvelle-Écos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FÉDÉRALISME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Union de plusieurs états qui se soumettent à un pouvoir général tout en conservant un gouvernement particulier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Comment se  répartissent les pouvoirs ?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l y a quatre types de pouvoirs 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POUVOIRS EXCLUSIFS AU FÉDÉR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s affaires générale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 : politique étrangère ; commerce international ; armée ; pouvoirs résiduaires. Banques, monnaie, navigation, pêcheries, pos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Pouvoirs exclusifs aux gouvernements provinciaux.</a:t>
            </a:r>
            <a:br>
              <a:rPr sz="4800"/>
            </a:b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____________________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Les affaires locales 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anté, éducation, travaux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ublics ; etc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6000" spc="-1" strike="noStrike" u="sng">
                <a:solidFill>
                  <a:srgbClr val="ffffff"/>
                </a:solidFill>
                <a:uFillTx/>
                <a:latin typeface="Times New Roman"/>
              </a:rPr>
              <a:t>Pouvoirs partagés.</a:t>
            </a:r>
            <a:br>
              <a:rPr sz="60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griculture et immigratio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ff"/>
                </a:solidFill>
                <a:uFillTx/>
                <a:latin typeface="Times New Roman"/>
              </a:rPr>
              <a:t>Pouvoirs résiduaires.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out ce qui n’est pas mentionné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ans la Constitution (ex. cinéma ;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.V. ; téléphone ;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élécommunications …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ls appartiennent au fédéra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9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1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Portrait de l’époque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rritoire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erre de Sécession aux États-Unis (Sud contre le Nord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'Angleterre appuie le Su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 Nord veut attaquer le Cana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te de la protection anglaise (libre échange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soin de former une union militaire des colonies anglai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419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haque gouvernement est autonome dans son domai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 gouvernement fédéral peut intervenir si l’intérêt national l’exig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ex. éduca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 Grande-Bretagne, au niveau international, parle au nom du Canada.  Elle a le contrôle des relations extérieur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e Dominion du Canada demeure toujours une colonie anglaise (ce n’est pas un état souverain) mais il peut administrer son territoire comme un état souvera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LA STRUCTURE POLITIQUE du GOUVERNEMENT FÉDÉRAL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543312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6858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e Canada est toujours une monarchie constitutionnelle. Le réel pouvoir est exercé par le Premier ministre et le cabine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e gouverneur général est nommé par l’Angleterre en 1867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Le gouvernement législatif se divise en deux chambre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 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ccc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Le Sénat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 (appelé chambre haute) : membres nommés par le gouverneur général sur recommandation du Premier ministre. En 1867, il comprend 72 membres nommés à vie. Il vote, amende ou rejette les lois approuvées par la chambre des commu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La Chambre des communes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(appelée chambre basse). Elle est composée des députés élus  au suffrage censitaire et masculin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e chef du parti ayant obtenu le plus de votes nomme 13 ministres (nous sommes en 1867 !) et ils forment le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abinet des ministr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Ils exécutent les décisions du Parlement. Ils sont le pouvoir exécuti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L’administration de la justice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 :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a Cour suprême est le plus haut tribunal. Elle fut créée en 1875. Le gouvernement fédéral nomme les juges des cours supérieures des provinc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e français et l’anglais sont reconnus comme langues officielles au fédéral et au Québec seulemen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QUI VOTE 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9448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n 1864 :15 % de la population adulte a le droit de vo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n  abaisse le cens électoral (propriété ou revenu) à quelques repri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n 1915 :Interdiction aux Amérindiens de vo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n 1917 :droit de vote accordé aux femmes au niveau fédér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À partir de 1875 :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ote secret.Le financement des partis politiques est réglementé (pour limiter  la corruption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4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A STRUCTURE POLITIQUE des GOUVERNEMENTS PROVINCIAUX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ieutenant gouverneu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 : nommé par le Premier ministre fédéral (a le droit de désavouer les loi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’Assemblée législativ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 : élue par le peuple au suffrage universel.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 Premier ministre provincia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est le chef du parti ayant obtenue le la majorité des voix et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 cabine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des ministres nommés par le Premier ministre parmi les députés élus de son part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LES AMÉRINDIENS DANS LA CONFÉDÉRATIO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On pense qu’ils s’en vont vers l’extin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n veut les amener à s’assimiler ou on les isole sur des terres réduites (réserves) pour qu’ils s’adonnent à l’agricultu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lusieurs traités sont signés où les Amérindiens renoncent à leurs territoires en échange de droits et d’arg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es traités entraînent l’expansion vers l’Oue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ORTRAIT DE L ’ÉPOQUE (suite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Économi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 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 1865 : non-renouvellement du traité de réciprocité avec les États-Un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e sera un dur coup pour l’économi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ela entraîne l’union du Canada-Uni et des Maritimes pour former un ensemble commercial (marché intérieu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La construction de l’Intercolonial 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Le chemin de fer sera prolongé de Rivière-du-Loup à Halifax. Il traversera maintenant le Canada-Uni, le Nouveau-Brunswick et la Nouvelle-Écosse. Ce sont trois colonies appartenant à l ’Angleter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L’Angleterre prêtera l’argent pour la construction à une condition : </a:t>
            </a:r>
            <a:r>
              <a:rPr b="1" lang="fr-CA" sz="2800" spc="-1" strike="noStrike" u="sng">
                <a:solidFill>
                  <a:srgbClr val="ffffff"/>
                </a:solidFill>
                <a:uFillTx/>
                <a:latin typeface="Times New Roman"/>
              </a:rPr>
              <a:t>la bonne entente entre les colon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RTRAIT DE L ’ÉPOQUE (suite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litique</a:t>
            </a: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 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Grande instabilité politique à partir de 1851 (après la démission de Baldwin et Lafontaine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Les députés défendent chacun leur région avant tou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Dissension au sein des Réformis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Radicaux :  Clear Grits à l’Ouest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Parti rouge à l’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Modérés et conservateurs : Libéraux conservateurs à l’Ouest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Libéraux conservateurs (bleus) à l’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43640" cy="2808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2781360"/>
            <a:ext cx="91440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Les Clear Grits demandent la représentation proportionnelle car les Canadiens anglais sont devenus plus nombreux que les Canadiens frança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L’instabilité politique paralyse le gouvernement du Canada-Uni (5 gouvernements en 2 an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En 1864, les chefs de partis du Canada-Uni vont s’entendre (coalition) pour former une union fédérale 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5T20:26:15Z</dcterms:created>
  <dc:creator>lebel</dc:creator>
  <dc:description/>
  <dc:language>en-US</dc:language>
  <cp:lastModifiedBy>Tech</cp:lastModifiedBy>
  <dcterms:modified xsi:type="dcterms:W3CDTF">2011-05-18T20:03:46Z</dcterms:modified>
  <cp:revision>58</cp:revision>
  <dc:subject/>
  <dc:title>CHAPITRE 1 </dc:title>
</cp:coreProperties>
</file>